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B65E-B431-4F0F-86F0-F6221F575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C1DC-E852-483C-B9C2-C62D2878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984A-760C-4944-B9BE-2E4603CFF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D7B9-14E5-475F-82F1-749898958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FF75-1EB8-4F61-9444-F87498E1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63CE-E8C1-4221-B1BF-013D9B10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A852-C383-4EB6-BD8E-C9811EDA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6B81-D813-4662-B374-82E71FCD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9807-699C-4B13-895E-D11FD2B8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09DF-D571-4D0F-8D6A-17A9ADF0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BE03-A672-45CA-9A11-7233A428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8BC7-19D8-487F-9538-D65D558C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6B6C-5EEA-4E70-9261-BBD38E164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UNEP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914400"/>
          </a:xfrm>
          <a:prstGeom prst="rect">
            <a:avLst/>
          </a:prstGeom>
          <a:ln w="0">
            <a:noFill/>
          </a:ln>
        </p:spPr>
      </p:pic>
      <p:pic>
        <p:nvPicPr>
          <p:cNvPr id="42" name="cplogo" descr=""/>
          <p:cNvPicPr/>
          <p:nvPr/>
        </p:nvPicPr>
        <p:blipFill>
          <a:blip r:embed="rId2"/>
          <a:stretch/>
        </p:blipFill>
        <p:spPr>
          <a:xfrm>
            <a:off x="8434440" y="0"/>
            <a:ext cx="704880" cy="857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295280" y="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Dutch TL"/>
              </a:rPr>
              <a:t>Tīrākās Ražošanas Finansēš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UNEP" descr=""/>
          <p:cNvPicPr/>
          <p:nvPr/>
        </p:nvPicPr>
        <p:blipFill>
          <a:blip r:embed="rId3"/>
          <a:stretch/>
        </p:blipFill>
        <p:spPr>
          <a:xfrm>
            <a:off x="0" y="0"/>
            <a:ext cx="977760" cy="1066680"/>
          </a:xfrm>
          <a:prstGeom prst="rect">
            <a:avLst/>
          </a:prstGeom>
          <a:ln w="0">
            <a:noFill/>
          </a:ln>
        </p:spPr>
      </p:pic>
      <p:pic>
        <p:nvPicPr>
          <p:cNvPr id="45" name="UNEP" descr=""/>
          <p:cNvPicPr/>
          <p:nvPr/>
        </p:nvPicPr>
        <p:blipFill>
          <a:blip r:embed="rId4"/>
          <a:stretch/>
        </p:blipFill>
        <p:spPr>
          <a:xfrm flipH="1" rot="10800000">
            <a:off x="1219320" y="6095520"/>
            <a:ext cx="533160" cy="762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905120" y="6292800"/>
            <a:ext cx="596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ISION OF TECHNOLOGY, INDUSTRY AND ECONOMIC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87280"/>
            <a:ext cx="9094680" cy="356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Dutch TL"/>
              </a:rPr>
              <a:t>AN Vides aizsardzības piee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Dutch TL"/>
              </a:rPr>
              <a:t>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Dutch TL"/>
              </a:rPr>
              <a:t>IEVADS TĪRĀKAS RAŽOŠANAS PRODUKTU DERĪGUMU NOVĒRTĒŠAN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7CB7-D60A-48D7-9B00-E6D4243D1FB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UNEP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914400"/>
          </a:xfrm>
          <a:prstGeom prst="rect">
            <a:avLst/>
          </a:prstGeom>
          <a:ln w="0">
            <a:noFill/>
          </a:ln>
        </p:spPr>
      </p:pic>
      <p:pic>
        <p:nvPicPr>
          <p:cNvPr id="107" name="cplogo" descr=""/>
          <p:cNvPicPr/>
          <p:nvPr/>
        </p:nvPicPr>
        <p:blipFill>
          <a:blip r:embed="rId2"/>
          <a:stretch/>
        </p:blipFill>
        <p:spPr>
          <a:xfrm>
            <a:off x="8434440" y="0"/>
            <a:ext cx="704880" cy="8571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295280" y="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Dutch TL"/>
              </a:rPr>
              <a:t>Tīrākās Ražošanas Finansēš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UNEP" descr=""/>
          <p:cNvPicPr/>
          <p:nvPr/>
        </p:nvPicPr>
        <p:blipFill>
          <a:blip r:embed="rId3"/>
          <a:stretch/>
        </p:blipFill>
        <p:spPr>
          <a:xfrm>
            <a:off x="0" y="0"/>
            <a:ext cx="977760" cy="1066680"/>
          </a:xfrm>
          <a:prstGeom prst="rect">
            <a:avLst/>
          </a:prstGeom>
          <a:ln w="0">
            <a:noFill/>
          </a:ln>
        </p:spPr>
      </p:pic>
      <p:pic>
        <p:nvPicPr>
          <p:cNvPr id="110" name="UNEP" descr=""/>
          <p:cNvPicPr/>
          <p:nvPr/>
        </p:nvPicPr>
        <p:blipFill>
          <a:blip r:embed="rId4"/>
          <a:stretch/>
        </p:blipFill>
        <p:spPr>
          <a:xfrm flipH="1" rot="10800000">
            <a:off x="1219320" y="6095520"/>
            <a:ext cx="53316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905120" y="6292800"/>
            <a:ext cx="596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ISION OF TECHNOLOGY, INDUSTRY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1143000"/>
            <a:ext cx="72392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iekšlikumi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utch T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Dutch TL"/>
              </a:rPr>
              <a:t>TR bezzaudējumu pieteikumu sagatavošanas kapacitātes attīstīš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Dutch TL"/>
              </a:rPr>
              <a:t>Jauni testēšanas un ieviešanas līdzekļi finansu institūciju vajadzībā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utch T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Dutch TL"/>
              </a:rPr>
              <a:t>Politikas veidotāju kapacitātes attīstīšana kompānijas cenu struktūras sakārtošan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1908-02EB-42BB-ACD0-DDBB42AC47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UNEP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914400"/>
          </a:xfrm>
          <a:prstGeom prst="rect">
            <a:avLst/>
          </a:prstGeom>
          <a:ln w="0">
            <a:noFill/>
          </a:ln>
        </p:spPr>
      </p:pic>
      <p:pic>
        <p:nvPicPr>
          <p:cNvPr id="114" name="cplogo" descr=""/>
          <p:cNvPicPr/>
          <p:nvPr/>
        </p:nvPicPr>
        <p:blipFill>
          <a:blip r:embed="rId2"/>
          <a:stretch/>
        </p:blipFill>
        <p:spPr>
          <a:xfrm>
            <a:off x="8434440" y="0"/>
            <a:ext cx="704880" cy="8571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295280" y="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Dutch TL"/>
              </a:rPr>
              <a:t>Tīrākās Ražošanas Finansēš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UNEP" descr=""/>
          <p:cNvPicPr/>
          <p:nvPr/>
        </p:nvPicPr>
        <p:blipFill>
          <a:blip r:embed="rId3"/>
          <a:stretch/>
        </p:blipFill>
        <p:spPr>
          <a:xfrm>
            <a:off x="0" y="0"/>
            <a:ext cx="977760" cy="1066680"/>
          </a:xfrm>
          <a:prstGeom prst="rect">
            <a:avLst/>
          </a:prstGeom>
          <a:ln w="0">
            <a:noFill/>
          </a:ln>
        </p:spPr>
      </p:pic>
      <p:pic>
        <p:nvPicPr>
          <p:cNvPr id="117" name="UNEP" descr=""/>
          <p:cNvPicPr/>
          <p:nvPr/>
        </p:nvPicPr>
        <p:blipFill>
          <a:blip r:embed="rId4"/>
          <a:stretch/>
        </p:blipFill>
        <p:spPr>
          <a:xfrm flipH="1" rot="10800000">
            <a:off x="1219320" y="6095520"/>
            <a:ext cx="533160" cy="762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905120" y="6292800"/>
            <a:ext cx="596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ISION OF TECHNOLOGY, INDUSTRY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219320"/>
            <a:ext cx="82296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iekšlikumi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Dutch TL"/>
              </a:rPr>
              <a:t>TR investēšanas kredītlīnijas veicināš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Aktīva starpnieka loma starp TR ieviesējiem un līdzekļu avot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Globāls sadarbības tīkls un daudznacionālo finansu institūciju atbal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8281-580A-44BE-AD9F-DE0BDE7846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UNEP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914400"/>
          </a:xfrm>
          <a:prstGeom prst="rect">
            <a:avLst/>
          </a:prstGeom>
          <a:ln w="0">
            <a:noFill/>
          </a:ln>
        </p:spPr>
      </p:pic>
      <p:pic>
        <p:nvPicPr>
          <p:cNvPr id="121" name="cplogo" descr=""/>
          <p:cNvPicPr/>
          <p:nvPr/>
        </p:nvPicPr>
        <p:blipFill>
          <a:blip r:embed="rId2"/>
          <a:stretch/>
        </p:blipFill>
        <p:spPr>
          <a:xfrm>
            <a:off x="8434440" y="0"/>
            <a:ext cx="704880" cy="8571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295280" y="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Dutch TL"/>
              </a:rPr>
              <a:t>Tīrākās Ražošanas Finansēš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UNEP" descr=""/>
          <p:cNvPicPr/>
          <p:nvPr/>
        </p:nvPicPr>
        <p:blipFill>
          <a:blip r:embed="rId3"/>
          <a:stretch/>
        </p:blipFill>
        <p:spPr>
          <a:xfrm>
            <a:off x="0" y="0"/>
            <a:ext cx="977760" cy="1066680"/>
          </a:xfrm>
          <a:prstGeom prst="rect">
            <a:avLst/>
          </a:prstGeom>
          <a:ln w="0">
            <a:noFill/>
          </a:ln>
        </p:spPr>
      </p:pic>
      <p:pic>
        <p:nvPicPr>
          <p:cNvPr id="124" name="UNEP" descr=""/>
          <p:cNvPicPr/>
          <p:nvPr/>
        </p:nvPicPr>
        <p:blipFill>
          <a:blip r:embed="rId4"/>
          <a:stretch/>
        </p:blipFill>
        <p:spPr>
          <a:xfrm flipH="1" rot="10800000">
            <a:off x="1219320" y="6095520"/>
            <a:ext cx="533160" cy="762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905120" y="6292800"/>
            <a:ext cx="596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ISION OF TECHNOLOGY, INDUSTRY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1295280"/>
            <a:ext cx="687384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Dutch TL"/>
              </a:rPr>
              <a:t>AN Vides aizsardzības atsaucī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Finansu Institūciju Iniciatīva par </a:t>
            </a: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Vidi </a:t>
            </a:r>
            <a:r>
              <a:rPr b="1" lang="en-US" sz="28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(apm. 180 parakstītāj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Norvēģijas sponsorētais projekts “Stratēģijas un mehānismi, lai veicinātu TR investēšanu attīstošajās valstī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E5B4-557E-4DE6-8EF2-AD1E3F65A4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UNEP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914400"/>
          </a:xfrm>
          <a:prstGeom prst="rect">
            <a:avLst/>
          </a:prstGeom>
          <a:ln w="0">
            <a:noFill/>
          </a:ln>
        </p:spPr>
      </p:pic>
      <p:pic>
        <p:nvPicPr>
          <p:cNvPr id="128" name="cplogo" descr=""/>
          <p:cNvPicPr/>
          <p:nvPr/>
        </p:nvPicPr>
        <p:blipFill>
          <a:blip r:embed="rId2"/>
          <a:stretch/>
        </p:blipFill>
        <p:spPr>
          <a:xfrm>
            <a:off x="8434440" y="0"/>
            <a:ext cx="704880" cy="857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295280" y="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Dutch TL"/>
              </a:rPr>
              <a:t>Tīrākās Ražošanas Finansēš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UNEP" descr=""/>
          <p:cNvPicPr/>
          <p:nvPr/>
        </p:nvPicPr>
        <p:blipFill>
          <a:blip r:embed="rId3"/>
          <a:stretch/>
        </p:blipFill>
        <p:spPr>
          <a:xfrm>
            <a:off x="0" y="0"/>
            <a:ext cx="977760" cy="1066680"/>
          </a:xfrm>
          <a:prstGeom prst="rect">
            <a:avLst/>
          </a:prstGeom>
          <a:ln w="0">
            <a:noFill/>
          </a:ln>
        </p:spPr>
      </p:pic>
      <p:pic>
        <p:nvPicPr>
          <p:cNvPr id="131" name="UNEP" descr=""/>
          <p:cNvPicPr/>
          <p:nvPr/>
        </p:nvPicPr>
        <p:blipFill>
          <a:blip r:embed="rId4"/>
          <a:stretch/>
        </p:blipFill>
        <p:spPr>
          <a:xfrm flipH="1" rot="10800000">
            <a:off x="1219320" y="6095520"/>
            <a:ext cx="533160" cy="7621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905120" y="6292800"/>
            <a:ext cx="596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ISION OF TECHNOLOGY, INDUSTRY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1066680"/>
            <a:ext cx="687384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Dutch TL"/>
              </a:rPr>
              <a:t>AN projektu mērķi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Parādīt finansu institūcijām un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industriju vadītājiem, kā novērtēt TR investēšanas priekšlikumu vērtīb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Pārliecināt finansu institūcijas, lai ieviestu TR investēšanas kredītlīni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Jaunu iniciatīvu veicināšana tādas kā kredītlīnijas, kredītlīdzekļi, politikas maiņa un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apmācī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F63A-D416-4440-9FA2-C017953BFF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UNEP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914400"/>
          </a:xfrm>
          <a:prstGeom prst="rect">
            <a:avLst/>
          </a:prstGeom>
          <a:ln w="0">
            <a:noFill/>
          </a:ln>
        </p:spPr>
      </p:pic>
      <p:pic>
        <p:nvPicPr>
          <p:cNvPr id="135" name="cplogo" descr=""/>
          <p:cNvPicPr/>
          <p:nvPr/>
        </p:nvPicPr>
        <p:blipFill>
          <a:blip r:embed="rId2"/>
          <a:stretch/>
        </p:blipFill>
        <p:spPr>
          <a:xfrm>
            <a:off x="8434440" y="0"/>
            <a:ext cx="704880" cy="857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295280" y="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Dutch TL"/>
              </a:rPr>
              <a:t>Tīrākās Ražošanas Finansēš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UNEP" descr=""/>
          <p:cNvPicPr/>
          <p:nvPr/>
        </p:nvPicPr>
        <p:blipFill>
          <a:blip r:embed="rId3"/>
          <a:stretch/>
        </p:blipFill>
        <p:spPr>
          <a:xfrm>
            <a:off x="0" y="0"/>
            <a:ext cx="977760" cy="1066680"/>
          </a:xfrm>
          <a:prstGeom prst="rect">
            <a:avLst/>
          </a:prstGeom>
          <a:ln w="0">
            <a:noFill/>
          </a:ln>
        </p:spPr>
      </p:pic>
      <p:pic>
        <p:nvPicPr>
          <p:cNvPr id="138" name="UNEP" descr=""/>
          <p:cNvPicPr/>
          <p:nvPr/>
        </p:nvPicPr>
        <p:blipFill>
          <a:blip r:embed="rId4"/>
          <a:stretch/>
        </p:blipFill>
        <p:spPr>
          <a:xfrm flipH="1" rot="10800000">
            <a:off x="1219320" y="6095520"/>
            <a:ext cx="533160" cy="762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905120" y="6292800"/>
            <a:ext cx="596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ISION OF TECHNOLOGY, INDUSTRY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1600200"/>
            <a:ext cx="7391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Dutch TL"/>
              </a:rPr>
              <a:t>AN projektu mērķi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Dutch TL"/>
              </a:rPr>
              <a:t>Apmācīt TR ekspertus-konsultantus, kā veidot atbilstošo aizdevumu pieteikum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Dutch TL"/>
              </a:rPr>
              <a:t>Uzlabot TR investēšanas vispārējos apstākļ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53BC-6ABC-43B3-B100-B7D87D3A4B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UNEP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914400"/>
          </a:xfrm>
          <a:prstGeom prst="rect">
            <a:avLst/>
          </a:prstGeom>
          <a:ln w="0">
            <a:noFill/>
          </a:ln>
        </p:spPr>
      </p:pic>
      <p:pic>
        <p:nvPicPr>
          <p:cNvPr id="142" name="cplogo" descr=""/>
          <p:cNvPicPr/>
          <p:nvPr/>
        </p:nvPicPr>
        <p:blipFill>
          <a:blip r:embed="rId2"/>
          <a:stretch/>
        </p:blipFill>
        <p:spPr>
          <a:xfrm>
            <a:off x="8434440" y="0"/>
            <a:ext cx="704880" cy="8571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295280" y="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Dutch TL"/>
              </a:rPr>
              <a:t>Tīrākās Ražošanas Finansēš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UNEP" descr=""/>
          <p:cNvPicPr/>
          <p:nvPr/>
        </p:nvPicPr>
        <p:blipFill>
          <a:blip r:embed="rId3"/>
          <a:stretch/>
        </p:blipFill>
        <p:spPr>
          <a:xfrm>
            <a:off x="0" y="0"/>
            <a:ext cx="977760" cy="1066680"/>
          </a:xfrm>
          <a:prstGeom prst="rect">
            <a:avLst/>
          </a:prstGeom>
          <a:ln w="0">
            <a:noFill/>
          </a:ln>
        </p:spPr>
      </p:pic>
      <p:pic>
        <p:nvPicPr>
          <p:cNvPr id="145" name="UNEP" descr=""/>
          <p:cNvPicPr/>
          <p:nvPr/>
        </p:nvPicPr>
        <p:blipFill>
          <a:blip r:embed="rId4"/>
          <a:stretch/>
        </p:blipFill>
        <p:spPr>
          <a:xfrm flipH="1" rot="10800000">
            <a:off x="1219320" y="6095520"/>
            <a:ext cx="53316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905120" y="6292800"/>
            <a:ext cx="596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ISION OF TECHNOLOGY, INDUSTRY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79440" y="1238400"/>
            <a:ext cx="656928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Dutch TL"/>
              </a:rPr>
              <a:t>AN Projektu organizēšana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Piecas demonstrēšanas valstis </a:t>
            </a: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(Guatemala, Nicaragua, Tanzania, </a:t>
            </a: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Vietnam, Zimbabw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Starptautiskā Konsultatīvā Pad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Nacionālā Konsultatīvā Pad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Nacionālie Kontaktpunkti un </a:t>
            </a: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Projektu Koordinā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D871-1A09-4C8C-AF25-A05E38890D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UNEP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914400"/>
          </a:xfrm>
          <a:prstGeom prst="rect">
            <a:avLst/>
          </a:prstGeom>
          <a:ln w="0">
            <a:noFill/>
          </a:ln>
        </p:spPr>
      </p:pic>
      <p:pic>
        <p:nvPicPr>
          <p:cNvPr id="149" name="cplogo" descr=""/>
          <p:cNvPicPr/>
          <p:nvPr/>
        </p:nvPicPr>
        <p:blipFill>
          <a:blip r:embed="rId2"/>
          <a:stretch/>
        </p:blipFill>
        <p:spPr>
          <a:xfrm>
            <a:off x="8434440" y="0"/>
            <a:ext cx="704880" cy="8571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295280" y="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Dutch TL"/>
              </a:rPr>
              <a:t>Tīrākās Ražošanas Finansēš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UNEP" descr=""/>
          <p:cNvPicPr/>
          <p:nvPr/>
        </p:nvPicPr>
        <p:blipFill>
          <a:blip r:embed="rId3"/>
          <a:stretch/>
        </p:blipFill>
        <p:spPr>
          <a:xfrm>
            <a:off x="0" y="0"/>
            <a:ext cx="977760" cy="1066680"/>
          </a:xfrm>
          <a:prstGeom prst="rect">
            <a:avLst/>
          </a:prstGeom>
          <a:ln w="0">
            <a:noFill/>
          </a:ln>
        </p:spPr>
      </p:pic>
      <p:pic>
        <p:nvPicPr>
          <p:cNvPr id="152" name="UNEP" descr=""/>
          <p:cNvPicPr/>
          <p:nvPr/>
        </p:nvPicPr>
        <p:blipFill>
          <a:blip r:embed="rId4"/>
          <a:stretch/>
        </p:blipFill>
        <p:spPr>
          <a:xfrm flipH="1" rot="10800000">
            <a:off x="1219320" y="6095520"/>
            <a:ext cx="533160" cy="7621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905120" y="6292800"/>
            <a:ext cx="596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ISION OF TECHNOLOGY, INDUSTRY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1143000"/>
            <a:ext cx="656892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et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Dutch TL"/>
              </a:rPr>
              <a:t>AN Projektu organizēšana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Globālā projektu vadības komanda UNEP/DTIE  Parīz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Projekta ilgums 1999-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bPag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ttp://unapt.org/Cp2/about/background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822F-3B8F-4BD8-ADBA-F128D54622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UNEP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914400"/>
          </a:xfrm>
          <a:prstGeom prst="rect">
            <a:avLst/>
          </a:prstGeom>
          <a:ln w="0">
            <a:noFill/>
          </a:ln>
        </p:spPr>
      </p:pic>
      <p:pic>
        <p:nvPicPr>
          <p:cNvPr id="156" name="cplogo" descr=""/>
          <p:cNvPicPr/>
          <p:nvPr/>
        </p:nvPicPr>
        <p:blipFill>
          <a:blip r:embed="rId2"/>
          <a:stretch/>
        </p:blipFill>
        <p:spPr>
          <a:xfrm>
            <a:off x="8434440" y="0"/>
            <a:ext cx="704880" cy="8571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295280" y="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Dutch TL"/>
              </a:rPr>
              <a:t>Tīrākās Ražošanas Finansēš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UNEP" descr=""/>
          <p:cNvPicPr/>
          <p:nvPr/>
        </p:nvPicPr>
        <p:blipFill>
          <a:blip r:embed="rId3"/>
          <a:stretch/>
        </p:blipFill>
        <p:spPr>
          <a:xfrm>
            <a:off x="0" y="0"/>
            <a:ext cx="977760" cy="1066680"/>
          </a:xfrm>
          <a:prstGeom prst="rect">
            <a:avLst/>
          </a:prstGeom>
          <a:ln w="0">
            <a:noFill/>
          </a:ln>
        </p:spPr>
      </p:pic>
      <p:pic>
        <p:nvPicPr>
          <p:cNvPr id="159" name="UNEP" descr=""/>
          <p:cNvPicPr/>
          <p:nvPr/>
        </p:nvPicPr>
        <p:blipFill>
          <a:blip r:embed="rId4"/>
          <a:stretch/>
        </p:blipFill>
        <p:spPr>
          <a:xfrm flipH="1" rot="10800000">
            <a:off x="1219320" y="6095520"/>
            <a:ext cx="533160" cy="7621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905120" y="6292800"/>
            <a:ext cx="596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ISION OF TECHNOLOGY, INDUSTRY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685800"/>
            <a:ext cx="701028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utch T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Dutch TL"/>
              </a:rPr>
              <a:t>Lēmumu pieņemšana investīciju ieguldīju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utch T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Dutch TL"/>
              </a:rPr>
              <a:t>(kapitālu ieguldījumu plānoša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</a:t>
            </a:r>
            <a:r>
              <a:rPr b="0" lang="en-US" sz="2000" spc="-1" strike="noStrike">
                <a:solidFill>
                  <a:srgbClr val="3333cc"/>
                </a:solidFill>
                <a:latin typeface="Dutch TL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Kapitālu ieguldījumu plānošana ir process, ar kura palīdzību  firma nosaka, kā vislabāk ieguldīt tai pieejamos līdzekļ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</a:t>
            </a: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Dažām kompānijām ir izstrādāti kapitālu ieguldījumu plānošanas vadlīnijas, bet citām tādu na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</a:t>
            </a: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Dažas kompānijas regulāri veic ieguldīšanu, bet citas - tikai laiku pa laik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A243-4A1A-4F42-A899-52CC8A947A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UNEP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914400"/>
          </a:xfrm>
          <a:prstGeom prst="rect">
            <a:avLst/>
          </a:prstGeom>
          <a:ln w="0">
            <a:noFill/>
          </a:ln>
        </p:spPr>
      </p:pic>
      <p:pic>
        <p:nvPicPr>
          <p:cNvPr id="163" name="cplogo" descr=""/>
          <p:cNvPicPr/>
          <p:nvPr/>
        </p:nvPicPr>
        <p:blipFill>
          <a:blip r:embed="rId2"/>
          <a:stretch/>
        </p:blipFill>
        <p:spPr>
          <a:xfrm>
            <a:off x="8434440" y="0"/>
            <a:ext cx="704880" cy="8571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295280" y="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Dutch TL"/>
              </a:rPr>
              <a:t>Tīrākās Ražošanas Finansēš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UNEP" descr=""/>
          <p:cNvPicPr/>
          <p:nvPr/>
        </p:nvPicPr>
        <p:blipFill>
          <a:blip r:embed="rId3"/>
          <a:stretch/>
        </p:blipFill>
        <p:spPr>
          <a:xfrm>
            <a:off x="0" y="0"/>
            <a:ext cx="977760" cy="1066680"/>
          </a:xfrm>
          <a:prstGeom prst="rect">
            <a:avLst/>
          </a:prstGeom>
          <a:ln w="0">
            <a:noFill/>
          </a:ln>
        </p:spPr>
      </p:pic>
      <p:pic>
        <p:nvPicPr>
          <p:cNvPr id="166" name="UNEP" descr=""/>
          <p:cNvPicPr/>
          <p:nvPr/>
        </p:nvPicPr>
        <p:blipFill>
          <a:blip r:embed="rId4"/>
          <a:stretch/>
        </p:blipFill>
        <p:spPr>
          <a:xfrm flipH="1" rot="10800000">
            <a:off x="1219320" y="6095520"/>
            <a:ext cx="533160" cy="7621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905120" y="6292800"/>
            <a:ext cx="596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ISION OF TECHNOLOGY, INDUSTRY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762120"/>
            <a:ext cx="701064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utch T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Dutch TL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Dutch TL"/>
              </a:rPr>
              <a:t>ēmumi investīciju ieguldīšan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</a:t>
            </a:r>
            <a:r>
              <a:rPr b="0" lang="en-US" sz="2800" spc="-1" strike="noStrike">
                <a:solidFill>
                  <a:srgbClr val="3333cc"/>
                </a:solidFill>
                <a:latin typeface="Dutch TL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Dutch TL"/>
              </a:rPr>
              <a:t>Parasti firmām jāizvēlas starp daudzkārtīgām ieguldījumu iespējā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</a:t>
            </a:r>
            <a:r>
              <a:rPr b="0" lang="en-US" sz="2800" spc="-1" strike="noStrike">
                <a:solidFill>
                  <a:srgbClr val="3333cc"/>
                </a:solidFill>
                <a:latin typeface="Dutch TL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Dutch TL"/>
              </a:rPr>
              <a:t>Investīciju projekti ietver vai nu esošo darbību (operāciju) modifikācijas vai pilnīgi jaunas darbība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</a:t>
            </a:r>
            <a:r>
              <a:rPr b="0" lang="en-US" sz="2800" spc="-1" strike="noStrike">
                <a:solidFill>
                  <a:srgbClr val="3333cc"/>
                </a:solidFill>
                <a:latin typeface="Dutch TL"/>
              </a:rPr>
              <a:t>  “</a:t>
            </a:r>
            <a:r>
              <a:rPr b="0" lang="en-US" sz="2800" spc="-1" strike="noStrike">
                <a:solidFill>
                  <a:srgbClr val="3333cc"/>
                </a:solidFill>
                <a:latin typeface="Dutch TL"/>
              </a:rPr>
              <a:t>Investīciju” projekti var ietvert lielu kapitālu vērtīgumu vai apmierinošu, vai vienkārši prasību darbību praktiskajā maiņ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73DB-36E3-40CF-94EB-6E9CC2DE43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UNEP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914400"/>
          </a:xfrm>
          <a:prstGeom prst="rect">
            <a:avLst/>
          </a:prstGeom>
          <a:ln w="0">
            <a:noFill/>
          </a:ln>
        </p:spPr>
      </p:pic>
      <p:pic>
        <p:nvPicPr>
          <p:cNvPr id="170" name="cplogo" descr=""/>
          <p:cNvPicPr/>
          <p:nvPr/>
        </p:nvPicPr>
        <p:blipFill>
          <a:blip r:embed="rId2"/>
          <a:stretch/>
        </p:blipFill>
        <p:spPr>
          <a:xfrm>
            <a:off x="8434440" y="0"/>
            <a:ext cx="704880" cy="8571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295280" y="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Dutch TL"/>
              </a:rPr>
              <a:t>Tīrākās Ražošanas Finansēš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UNEP" descr=""/>
          <p:cNvPicPr/>
          <p:nvPr/>
        </p:nvPicPr>
        <p:blipFill>
          <a:blip r:embed="rId3"/>
          <a:stretch/>
        </p:blipFill>
        <p:spPr>
          <a:xfrm>
            <a:off x="0" y="0"/>
            <a:ext cx="977760" cy="1066680"/>
          </a:xfrm>
          <a:prstGeom prst="rect">
            <a:avLst/>
          </a:prstGeom>
          <a:ln w="0">
            <a:noFill/>
          </a:ln>
        </p:spPr>
      </p:pic>
      <p:pic>
        <p:nvPicPr>
          <p:cNvPr id="173" name="UNEP" descr=""/>
          <p:cNvPicPr/>
          <p:nvPr/>
        </p:nvPicPr>
        <p:blipFill>
          <a:blip r:embed="rId4"/>
          <a:stretch/>
        </p:blipFill>
        <p:spPr>
          <a:xfrm flipH="1" rot="10800000">
            <a:off x="1219320" y="6095520"/>
            <a:ext cx="533160" cy="7621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905120" y="6292800"/>
            <a:ext cx="596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ISION OF TECHNOLOGY, INDUSTRY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1295280"/>
            <a:ext cx="701028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utch T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Dutch TL"/>
              </a:rPr>
              <a:t>Vides” investīciju projektu slikta reputā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Daudzi rūpniecības speciālisti uzskata, ka “vides” projektiem ir pieaugoša nepieciešamība iekļauties biznesā, bet rada finansiālus zaudējumus, j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Dutch T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Dutch TL"/>
              </a:rPr>
              <a:t>tie ir saistīti ar piesārņojumu kontroli tādu kā ļoti dārgo notekūdeņu sistēmas radīšan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Dutch T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Dutch TL"/>
              </a:rPr>
              <a:t>viņi  neko nezina par finansiālajiem labumiem, ko dod vides pārvaldības pasāk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4362-5579-4A41-AC8C-2E149C456DE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UNEP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914400"/>
          </a:xfrm>
          <a:prstGeom prst="rect">
            <a:avLst/>
          </a:prstGeom>
          <a:ln w="0">
            <a:noFill/>
          </a:ln>
        </p:spPr>
      </p:pic>
      <p:pic>
        <p:nvPicPr>
          <p:cNvPr id="49" name="cplogo" descr=""/>
          <p:cNvPicPr/>
          <p:nvPr/>
        </p:nvPicPr>
        <p:blipFill>
          <a:blip r:embed="rId2"/>
          <a:stretch/>
        </p:blipFill>
        <p:spPr>
          <a:xfrm>
            <a:off x="8434440" y="0"/>
            <a:ext cx="704880" cy="85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Dutch TL"/>
              </a:rPr>
              <a:t>Tīrākās Ražošanas Finansēš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UNEP" descr=""/>
          <p:cNvPicPr/>
          <p:nvPr/>
        </p:nvPicPr>
        <p:blipFill>
          <a:blip r:embed="rId3"/>
          <a:stretch/>
        </p:blipFill>
        <p:spPr>
          <a:xfrm>
            <a:off x="0" y="0"/>
            <a:ext cx="977760" cy="1066680"/>
          </a:xfrm>
          <a:prstGeom prst="rect">
            <a:avLst/>
          </a:prstGeom>
          <a:ln w="0">
            <a:noFill/>
          </a:ln>
        </p:spPr>
      </p:pic>
      <p:pic>
        <p:nvPicPr>
          <p:cNvPr id="52" name="UNEP" descr=""/>
          <p:cNvPicPr/>
          <p:nvPr/>
        </p:nvPicPr>
        <p:blipFill>
          <a:blip r:embed="rId4"/>
          <a:stretch/>
        </p:blipFill>
        <p:spPr>
          <a:xfrm flipH="1" rot="10800000">
            <a:off x="1219320" y="6095520"/>
            <a:ext cx="533160" cy="762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05120" y="6292800"/>
            <a:ext cx="596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ISION OF TECHNOLOGY, INDUSTRY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762120"/>
            <a:ext cx="7924680" cy="60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utch TL"/>
              </a:rPr>
              <a:t>Izdevība un aicinājums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Dutch TL"/>
              </a:rPr>
              <a:t>Attīstītajās valstīs visvairāk ir palielinājušies </a:t>
            </a:r>
            <a:r>
              <a:rPr b="0" lang="en-US" sz="3200" spc="-1" strike="noStrike">
                <a:solidFill>
                  <a:srgbClr val="3333cc"/>
                </a:solidFill>
                <a:latin typeface="Dutch T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Dutch TL"/>
              </a:rPr>
              <a:t>ieguldījumi industrijā un enerģijas ražošanā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Dutch TL"/>
              </a:rPr>
              <a:t>Tas paredz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Dutch T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Dutch T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Dutch TL"/>
              </a:rPr>
              <a:t>Izdevību, lai izvairītos no dārgiem resursu patēriņa risinājumiem;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Dutch T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Dutch T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Dutch TL"/>
              </a:rPr>
              <a:t>Izdevību, lai uzturētu industrijas </a:t>
            </a:r>
            <a:r>
              <a:rPr b="0" lang="en-US" sz="2800" spc="-1" strike="noStrike">
                <a:solidFill>
                  <a:srgbClr val="3333cc"/>
                </a:solidFill>
                <a:latin typeface="Dutch T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Dutch TL"/>
              </a:rPr>
              <a:t>attīstību bez dabas resursu noplicināšanas un vides noslogoša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922E-72A5-4B90-940D-C90FB9175C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UNEP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914400"/>
          </a:xfrm>
          <a:prstGeom prst="rect">
            <a:avLst/>
          </a:prstGeom>
          <a:ln w="0">
            <a:noFill/>
          </a:ln>
        </p:spPr>
      </p:pic>
      <p:pic>
        <p:nvPicPr>
          <p:cNvPr id="177" name="cplogo" descr=""/>
          <p:cNvPicPr/>
          <p:nvPr/>
        </p:nvPicPr>
        <p:blipFill>
          <a:blip r:embed="rId2"/>
          <a:stretch/>
        </p:blipFill>
        <p:spPr>
          <a:xfrm>
            <a:off x="8434440" y="0"/>
            <a:ext cx="704880" cy="8571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295280" y="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Dutch TL"/>
              </a:rPr>
              <a:t>Tīrākās Ražošanas Finansēš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UNEP" descr=""/>
          <p:cNvPicPr/>
          <p:nvPr/>
        </p:nvPicPr>
        <p:blipFill>
          <a:blip r:embed="rId3"/>
          <a:stretch/>
        </p:blipFill>
        <p:spPr>
          <a:xfrm>
            <a:off x="0" y="0"/>
            <a:ext cx="977760" cy="1066680"/>
          </a:xfrm>
          <a:prstGeom prst="rect">
            <a:avLst/>
          </a:prstGeom>
          <a:ln w="0">
            <a:noFill/>
          </a:ln>
        </p:spPr>
      </p:pic>
      <p:pic>
        <p:nvPicPr>
          <p:cNvPr id="180" name="UNEP" descr=""/>
          <p:cNvPicPr/>
          <p:nvPr/>
        </p:nvPicPr>
        <p:blipFill>
          <a:blip r:embed="rId4"/>
          <a:stretch/>
        </p:blipFill>
        <p:spPr>
          <a:xfrm flipH="1" rot="10800000">
            <a:off x="1219320" y="6095520"/>
            <a:ext cx="533160" cy="7621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905120" y="6292800"/>
            <a:ext cx="596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ISION OF TECHNOLOGY, INDUSTRY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43000" y="914400"/>
            <a:ext cx="716292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utch TL"/>
              </a:rPr>
              <a:t>TR projektu derīguma novērtēj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Jāievēr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Dutch T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Dutch TL"/>
              </a:rPr>
              <a:t>visas svarīgākās &amp; nozīmīgākās izmaksas, to ekonomija derīguma analīz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Dutch T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Dutch TL"/>
              </a:rPr>
              <a:t>domāt “ilgtermiņā” (vai vismaz “vidējā termiņā”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Dutch T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Dutch TL"/>
              </a:rPr>
              <a:t>iekļaut valūtas kursa maiņ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Dutch T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Dutch TL"/>
              </a:rPr>
              <a:t>pielietot daudzkārtīgos derīguma indikāto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Dutch T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Dutch TL"/>
              </a:rPr>
              <a:t>mainīgu (nedrošu) datu rūpīga analīžu veik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17DA-2857-463B-8CA6-B4991E804F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UNEP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914400"/>
          </a:xfrm>
          <a:prstGeom prst="rect">
            <a:avLst/>
          </a:prstGeom>
          <a:ln w="0">
            <a:noFill/>
          </a:ln>
        </p:spPr>
      </p:pic>
      <p:pic>
        <p:nvPicPr>
          <p:cNvPr id="184" name="cplogo" descr=""/>
          <p:cNvPicPr/>
          <p:nvPr/>
        </p:nvPicPr>
        <p:blipFill>
          <a:blip r:embed="rId2"/>
          <a:stretch/>
        </p:blipFill>
        <p:spPr>
          <a:xfrm>
            <a:off x="8434440" y="0"/>
            <a:ext cx="704880" cy="8571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295280" y="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Dutch TL"/>
              </a:rPr>
              <a:t>Tīrākās Ražošanas Finansēš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UNEP" descr=""/>
          <p:cNvPicPr/>
          <p:nvPr/>
        </p:nvPicPr>
        <p:blipFill>
          <a:blip r:embed="rId3"/>
          <a:stretch/>
        </p:blipFill>
        <p:spPr>
          <a:xfrm>
            <a:off x="0" y="0"/>
            <a:ext cx="977760" cy="1066680"/>
          </a:xfrm>
          <a:prstGeom prst="rect">
            <a:avLst/>
          </a:prstGeom>
          <a:ln w="0">
            <a:noFill/>
          </a:ln>
        </p:spPr>
      </p:pic>
      <p:pic>
        <p:nvPicPr>
          <p:cNvPr id="187" name="UNEP" descr=""/>
          <p:cNvPicPr/>
          <p:nvPr/>
        </p:nvPicPr>
        <p:blipFill>
          <a:blip r:embed="rId4"/>
          <a:stretch/>
        </p:blipFill>
        <p:spPr>
          <a:xfrm flipH="1" rot="10800000">
            <a:off x="1219320" y="6095520"/>
            <a:ext cx="533160" cy="7621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905120" y="6292800"/>
            <a:ext cx="596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ISION OF TECHNOLOGY, INDUSTRY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1219320"/>
            <a:ext cx="7162920" cy="45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Dutch TL"/>
              </a:rPr>
              <a:t>Potenciālās projektu izmaksas un ekonom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Dutch T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Dutch TL"/>
              </a:rPr>
              <a:t>sākotnējās ieguldījumu izmaks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Dutch T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Dutch TL"/>
              </a:rPr>
              <a:t>gada darbības izmaksas &amp; ekonom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ražošanas faktoru izmaksu zaudēj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atkritumu saimniecības izmaksas</a:t>
            </a:r>
            <a:r>
              <a:rPr b="0" lang="en-US" sz="2000" spc="-1" strike="noStrike">
                <a:solidFill>
                  <a:srgbClr val="3333cc"/>
                </a:solidFill>
                <a:latin typeface="Dutch T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mazākās reālās </a:t>
            </a:r>
            <a:r>
              <a:rPr b="0" lang="en-US" sz="2800" spc="-1" strike="noStrike">
                <a:solidFill>
                  <a:srgbClr val="3333cc"/>
                </a:solidFill>
                <a:latin typeface="Dutch TL"/>
              </a:rPr>
              <a:t>izmaksas</a:t>
            </a: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ienāk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99DF-B932-4FC3-A95E-438D908F48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UNEP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914400"/>
          </a:xfrm>
          <a:prstGeom prst="rect">
            <a:avLst/>
          </a:prstGeom>
          <a:ln w="0">
            <a:noFill/>
          </a:ln>
        </p:spPr>
      </p:pic>
      <p:pic>
        <p:nvPicPr>
          <p:cNvPr id="191" name="cplogo" descr=""/>
          <p:cNvPicPr/>
          <p:nvPr/>
        </p:nvPicPr>
        <p:blipFill>
          <a:blip r:embed="rId2"/>
          <a:stretch/>
        </p:blipFill>
        <p:spPr>
          <a:xfrm>
            <a:off x="8434440" y="0"/>
            <a:ext cx="704880" cy="85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295280" y="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Dutch TL"/>
              </a:rPr>
              <a:t>Tīrākās Ražošanas Finansēš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UNEP" descr=""/>
          <p:cNvPicPr/>
          <p:nvPr/>
        </p:nvPicPr>
        <p:blipFill>
          <a:blip r:embed="rId3"/>
          <a:stretch/>
        </p:blipFill>
        <p:spPr>
          <a:xfrm>
            <a:off x="0" y="0"/>
            <a:ext cx="977760" cy="1066680"/>
          </a:xfrm>
          <a:prstGeom prst="rect">
            <a:avLst/>
          </a:prstGeom>
          <a:ln w="0">
            <a:noFill/>
          </a:ln>
        </p:spPr>
      </p:pic>
      <p:pic>
        <p:nvPicPr>
          <p:cNvPr id="194" name="UNEP" descr=""/>
          <p:cNvPicPr/>
          <p:nvPr/>
        </p:nvPicPr>
        <p:blipFill>
          <a:blip r:embed="rId4"/>
          <a:stretch/>
        </p:blipFill>
        <p:spPr>
          <a:xfrm flipH="1" rot="10800000">
            <a:off x="1219320" y="6095520"/>
            <a:ext cx="533160" cy="7621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905120" y="6292800"/>
            <a:ext cx="596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ISION OF TECHNOLOGY, INDUSTRY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533520"/>
            <a:ext cx="868680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Dutch TL"/>
              </a:rPr>
              <a:t>Derīguma novērtēšanas galveno izmaksu/ekonomiju kategori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Dutch TL"/>
              </a:rPr>
              <a:t>Sākotbējās investīciju </a:t>
            </a:r>
            <a:r>
              <a:rPr b="0" lang="en-US" sz="2000" spc="-1" strike="noStrike">
                <a:solidFill>
                  <a:srgbClr val="3333cc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Dutch TL"/>
              </a:rPr>
              <a:t>      </a:t>
            </a:r>
            <a:r>
              <a:rPr b="0" lang="en-US" sz="2000" spc="-1" strike="noStrike">
                <a:solidFill>
                  <a:srgbClr val="3333cc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Dutch TL"/>
              </a:rPr>
              <a:t>Gada darbības izmaksas &amp; ekonom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Dutch TL"/>
              </a:rPr>
              <a:t>izmak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Dutch T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Dutch TL"/>
              </a:rPr>
              <a:t>Ražošanas fakt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Dutch TL"/>
              </a:rPr>
              <a:t>- Plānošana/tehnika</a:t>
            </a:r>
            <a:r>
              <a:rPr b="1" lang="en-US" sz="2000" spc="-1" strike="noStrike">
                <a:solidFill>
                  <a:srgbClr val="3333cc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Dutch TL"/>
              </a:rPr>
              <a:t>-Materiā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Dutch TL"/>
              </a:rPr>
              <a:t>- Atļaujas</a:t>
            </a:r>
            <a:r>
              <a:rPr b="1" lang="en-US" sz="2000" spc="-1" strike="noStrike">
                <a:solidFill>
                  <a:srgbClr val="3333cc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Dutch TL"/>
              </a:rPr>
              <a:t>-Enerģ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Dutch TL"/>
              </a:rPr>
              <a:t>- Vietas sagatavošana</a:t>
            </a:r>
            <a:r>
              <a:rPr b="1" lang="en-US" sz="2000" spc="-1" strike="noStrike">
                <a:solidFill>
                  <a:srgbClr val="3333cc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Dutch TL"/>
              </a:rPr>
              <a:t>-Darba spē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Dutch TL"/>
              </a:rPr>
              <a:t>- Iekārtu vērtība </a:t>
            </a:r>
            <a:r>
              <a:rPr b="1" lang="en-US" sz="2000" spc="-1" strike="noStrike">
                <a:solidFill>
                  <a:srgbClr val="3333cc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Dutch TL"/>
              </a:rPr>
              <a:t>-Darbības platī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Dutch TL"/>
              </a:rPr>
              <a:t>- Sistēmu lietderība &amp; </a:t>
            </a:r>
            <a:r>
              <a:rPr b="1" lang="en-US" sz="2000" spc="-1" strike="noStrike">
                <a:solidFill>
                  <a:srgbClr val="3333cc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Dutch TL"/>
              </a:rPr>
              <a:t>-Atkritumu pārvaldība,  materiā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Dutch TL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Dutch TL"/>
              </a:rPr>
              <a:t>sakari</a:t>
            </a:r>
            <a:r>
              <a:rPr b="1" lang="en-US" sz="2000" spc="-1" strike="noStrike">
                <a:solidFill>
                  <a:srgbClr val="3333cc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Dutch TL"/>
              </a:rPr>
              <a:t>               -Atkritumu pārvaldība, enerģ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Dutch TL"/>
              </a:rPr>
              <a:t>- Apmācība</a:t>
            </a:r>
            <a:r>
              <a:rPr b="1" lang="en-US" sz="2000" spc="-1" strike="noStrike">
                <a:solidFill>
                  <a:srgbClr val="3333cc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Dutch TL"/>
              </a:rPr>
              <a:t>               -Atkritumu pārvaldība, dar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Dutch TL"/>
              </a:rPr>
              <a:t>- Darba kapitāls</a:t>
            </a:r>
            <a:r>
              <a:rPr b="1" lang="en-US" sz="2000" spc="-1" strike="noStrike">
                <a:solidFill>
                  <a:srgbClr val="3333cc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Dutch TL"/>
              </a:rPr>
              <a:t>               -Atkritumu pārvaldība, platī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Dutch TL"/>
              </a:rPr>
              <a:t>-Neparedzēti apstākļi</a:t>
            </a:r>
            <a:r>
              <a:rPr b="1" lang="en-US" sz="2000" spc="-1" strike="noStrike">
                <a:solidFill>
                  <a:srgbClr val="3333cc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Dutch TL"/>
              </a:rPr>
              <a:t>              - Atkritumu pārvaldība, atalgoj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Dutch TL"/>
              </a:rPr>
              <a:t>- Mazākie reālie  ienāk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33FD-9553-447B-BC24-1B4E27687BF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UNEP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914400"/>
          </a:xfrm>
          <a:prstGeom prst="rect">
            <a:avLst/>
          </a:prstGeom>
          <a:ln w="0">
            <a:noFill/>
          </a:ln>
        </p:spPr>
      </p:pic>
      <p:pic>
        <p:nvPicPr>
          <p:cNvPr id="198" name="cplogo" descr=""/>
          <p:cNvPicPr/>
          <p:nvPr/>
        </p:nvPicPr>
        <p:blipFill>
          <a:blip r:embed="rId2"/>
          <a:stretch/>
        </p:blipFill>
        <p:spPr>
          <a:xfrm>
            <a:off x="8434440" y="0"/>
            <a:ext cx="704880" cy="8571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295280" y="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Dutch TL"/>
              </a:rPr>
              <a:t>Tīrākās Ražošanas Finansēš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UNEP" descr=""/>
          <p:cNvPicPr/>
          <p:nvPr/>
        </p:nvPicPr>
        <p:blipFill>
          <a:blip r:embed="rId3"/>
          <a:stretch/>
        </p:blipFill>
        <p:spPr>
          <a:xfrm>
            <a:off x="0" y="0"/>
            <a:ext cx="977760" cy="1066680"/>
          </a:xfrm>
          <a:prstGeom prst="rect">
            <a:avLst/>
          </a:prstGeom>
          <a:ln w="0">
            <a:noFill/>
          </a:ln>
        </p:spPr>
      </p:pic>
      <p:pic>
        <p:nvPicPr>
          <p:cNvPr id="201" name="UNEP" descr=""/>
          <p:cNvPicPr/>
          <p:nvPr/>
        </p:nvPicPr>
        <p:blipFill>
          <a:blip r:embed="rId4"/>
          <a:stretch/>
        </p:blipFill>
        <p:spPr>
          <a:xfrm flipH="1" rot="10800000">
            <a:off x="1219320" y="6095520"/>
            <a:ext cx="533160" cy="7621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905120" y="6292800"/>
            <a:ext cx="596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ISION OF TECHNOLOGY, INDUSTRY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8080" y="685800"/>
            <a:ext cx="769644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Dutch TL"/>
              </a:rPr>
              <a:t>Bieži vides izmaksas ir nepietiekami novērtētas      </a:t>
            </a:r>
            <a:r>
              <a:rPr b="1" lang="en-US" sz="2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Dutch T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Pētījumu rezultāt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Uz katru kompānijas atkritumu izmaksas vērtētu ASV dolāru veidojas nenovērtēti  2 - 3 dolā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Kompānijas nepietiekami novērtē, kāda ir reālā atkritumu izmaksa, bet dažreiz pat to lielumu nenovērt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Tas attiecas pat uz lielām, labi vadītām kompānijā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57BE-099E-49E2-9004-DC8C7E8177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UNEP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914400"/>
          </a:xfrm>
          <a:prstGeom prst="rect">
            <a:avLst/>
          </a:prstGeom>
          <a:ln w="0">
            <a:noFill/>
          </a:ln>
        </p:spPr>
      </p:pic>
      <p:pic>
        <p:nvPicPr>
          <p:cNvPr id="205" name="cplogo" descr=""/>
          <p:cNvPicPr/>
          <p:nvPr/>
        </p:nvPicPr>
        <p:blipFill>
          <a:blip r:embed="rId2"/>
          <a:stretch/>
        </p:blipFill>
        <p:spPr>
          <a:xfrm>
            <a:off x="8434440" y="0"/>
            <a:ext cx="704880" cy="8571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295280" y="0"/>
            <a:ext cx="6705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Dutch TL"/>
              </a:rPr>
              <a:t>Tīrākās Ražošanas Finansēš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Dutch T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Dutch TL"/>
              </a:rPr>
              <a:t>Atkritumu izmaksas” Icebe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UNEP" descr=""/>
          <p:cNvPicPr/>
          <p:nvPr/>
        </p:nvPicPr>
        <p:blipFill>
          <a:blip r:embed="rId3"/>
          <a:stretch/>
        </p:blipFill>
        <p:spPr>
          <a:xfrm>
            <a:off x="0" y="0"/>
            <a:ext cx="977760" cy="1066680"/>
          </a:xfrm>
          <a:prstGeom prst="rect">
            <a:avLst/>
          </a:prstGeom>
          <a:ln w="0">
            <a:noFill/>
          </a:ln>
        </p:spPr>
      </p:pic>
      <p:pic>
        <p:nvPicPr>
          <p:cNvPr id="208" name="UNEP" descr=""/>
          <p:cNvPicPr/>
          <p:nvPr/>
        </p:nvPicPr>
        <p:blipFill>
          <a:blip r:embed="rId4"/>
          <a:stretch/>
        </p:blipFill>
        <p:spPr>
          <a:xfrm flipH="1" rot="10800000">
            <a:off x="1219320" y="6095520"/>
            <a:ext cx="533160" cy="7621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905120" y="6292800"/>
            <a:ext cx="596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ISION OF TECHNOLOGY, INDUSTRY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8080" y="68580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48120" y="1447920"/>
            <a:ext cx="3205080" cy="4713120"/>
          </a:xfrm>
          <a:custGeom>
            <a:avLst/>
            <a:gdLst/>
            <a:ahLst/>
            <a:rect l="l" t="t" r="r" b="b"/>
            <a:pathLst>
              <a:path w="2019" h="2921">
                <a:moveTo>
                  <a:pt x="247" y="1006"/>
                </a:moveTo>
                <a:cubicBezTo>
                  <a:pt x="276" y="919"/>
                  <a:pt x="248" y="1013"/>
                  <a:pt x="271" y="838"/>
                </a:cubicBezTo>
                <a:cubicBezTo>
                  <a:pt x="273" y="822"/>
                  <a:pt x="269" y="798"/>
                  <a:pt x="283" y="790"/>
                </a:cubicBezTo>
                <a:cubicBezTo>
                  <a:pt x="311" y="774"/>
                  <a:pt x="347" y="782"/>
                  <a:pt x="379" y="778"/>
                </a:cubicBezTo>
                <a:cubicBezTo>
                  <a:pt x="482" y="744"/>
                  <a:pt x="332" y="801"/>
                  <a:pt x="511" y="646"/>
                </a:cubicBezTo>
                <a:cubicBezTo>
                  <a:pt x="534" y="626"/>
                  <a:pt x="567" y="622"/>
                  <a:pt x="595" y="610"/>
                </a:cubicBezTo>
                <a:cubicBezTo>
                  <a:pt x="611" y="467"/>
                  <a:pt x="629" y="432"/>
                  <a:pt x="715" y="310"/>
                </a:cubicBezTo>
                <a:cubicBezTo>
                  <a:pt x="722" y="267"/>
                  <a:pt x="713" y="190"/>
                  <a:pt x="799" y="214"/>
                </a:cubicBezTo>
                <a:cubicBezTo>
                  <a:pt x="815" y="219"/>
                  <a:pt x="808" y="246"/>
                  <a:pt x="811" y="262"/>
                </a:cubicBezTo>
                <a:cubicBezTo>
                  <a:pt x="816" y="290"/>
                  <a:pt x="819" y="318"/>
                  <a:pt x="823" y="346"/>
                </a:cubicBezTo>
                <a:cubicBezTo>
                  <a:pt x="852" y="288"/>
                  <a:pt x="854" y="286"/>
                  <a:pt x="883" y="214"/>
                </a:cubicBezTo>
                <a:cubicBezTo>
                  <a:pt x="927" y="105"/>
                  <a:pt x="885" y="129"/>
                  <a:pt x="955" y="106"/>
                </a:cubicBezTo>
                <a:cubicBezTo>
                  <a:pt x="983" y="110"/>
                  <a:pt x="1014" y="105"/>
                  <a:pt x="1039" y="118"/>
                </a:cubicBezTo>
                <a:cubicBezTo>
                  <a:pt x="1050" y="124"/>
                  <a:pt x="971" y="76"/>
                  <a:pt x="983" y="78"/>
                </a:cubicBezTo>
                <a:cubicBezTo>
                  <a:pt x="1004" y="82"/>
                  <a:pt x="1066" y="12"/>
                  <a:pt x="1087" y="6"/>
                </a:cubicBezTo>
                <a:cubicBezTo>
                  <a:pt x="1110" y="0"/>
                  <a:pt x="1191" y="42"/>
                  <a:pt x="1215" y="38"/>
                </a:cubicBezTo>
                <a:cubicBezTo>
                  <a:pt x="1199" y="34"/>
                  <a:pt x="1248" y="7"/>
                  <a:pt x="1263" y="14"/>
                </a:cubicBezTo>
                <a:cubicBezTo>
                  <a:pt x="1286" y="25"/>
                  <a:pt x="1295" y="70"/>
                  <a:pt x="1295" y="70"/>
                </a:cubicBezTo>
                <a:cubicBezTo>
                  <a:pt x="1343" y="106"/>
                  <a:pt x="1313" y="191"/>
                  <a:pt x="1351" y="238"/>
                </a:cubicBezTo>
                <a:cubicBezTo>
                  <a:pt x="1369" y="260"/>
                  <a:pt x="1362" y="294"/>
                  <a:pt x="1363" y="322"/>
                </a:cubicBezTo>
                <a:cubicBezTo>
                  <a:pt x="1370" y="538"/>
                  <a:pt x="1371" y="754"/>
                  <a:pt x="1375" y="970"/>
                </a:cubicBezTo>
                <a:cubicBezTo>
                  <a:pt x="1344" y="1062"/>
                  <a:pt x="1313" y="1107"/>
                  <a:pt x="1351" y="1210"/>
                </a:cubicBezTo>
                <a:cubicBezTo>
                  <a:pt x="1365" y="1248"/>
                  <a:pt x="1393" y="1279"/>
                  <a:pt x="1423" y="1306"/>
                </a:cubicBezTo>
                <a:cubicBezTo>
                  <a:pt x="1624" y="1487"/>
                  <a:pt x="1704" y="1533"/>
                  <a:pt x="1903" y="1666"/>
                </a:cubicBezTo>
                <a:cubicBezTo>
                  <a:pt x="1907" y="1730"/>
                  <a:pt x="1909" y="1794"/>
                  <a:pt x="1915" y="1858"/>
                </a:cubicBezTo>
                <a:cubicBezTo>
                  <a:pt x="1921" y="1922"/>
                  <a:pt x="1939" y="2050"/>
                  <a:pt x="1939" y="2050"/>
                </a:cubicBezTo>
                <a:cubicBezTo>
                  <a:pt x="2019" y="2046"/>
                  <a:pt x="1907" y="2092"/>
                  <a:pt x="1975" y="2134"/>
                </a:cubicBezTo>
                <a:cubicBezTo>
                  <a:pt x="2017" y="2159"/>
                  <a:pt x="1495" y="2698"/>
                  <a:pt x="1903" y="2578"/>
                </a:cubicBezTo>
                <a:cubicBezTo>
                  <a:pt x="1615" y="2782"/>
                  <a:pt x="2004" y="2693"/>
                  <a:pt x="1903" y="2710"/>
                </a:cubicBezTo>
                <a:cubicBezTo>
                  <a:pt x="1914" y="2921"/>
                  <a:pt x="1884" y="2613"/>
                  <a:pt x="1783" y="2806"/>
                </a:cubicBezTo>
                <a:cubicBezTo>
                  <a:pt x="1770" y="2831"/>
                  <a:pt x="1676" y="2840"/>
                  <a:pt x="1663" y="2842"/>
                </a:cubicBezTo>
                <a:cubicBezTo>
                  <a:pt x="1603" y="2802"/>
                  <a:pt x="1552" y="2743"/>
                  <a:pt x="1483" y="2722"/>
                </a:cubicBezTo>
                <a:cubicBezTo>
                  <a:pt x="1340" y="2678"/>
                  <a:pt x="1195" y="2698"/>
                  <a:pt x="1051" y="2710"/>
                </a:cubicBezTo>
                <a:cubicBezTo>
                  <a:pt x="1050" y="2716"/>
                  <a:pt x="1003" y="2762"/>
                  <a:pt x="999" y="2774"/>
                </a:cubicBezTo>
                <a:cubicBezTo>
                  <a:pt x="984" y="2819"/>
                  <a:pt x="996" y="2854"/>
                  <a:pt x="951" y="2862"/>
                </a:cubicBezTo>
                <a:cubicBezTo>
                  <a:pt x="930" y="2865"/>
                  <a:pt x="813" y="2750"/>
                  <a:pt x="767" y="2758"/>
                </a:cubicBezTo>
                <a:cubicBezTo>
                  <a:pt x="723" y="2692"/>
                  <a:pt x="719" y="2874"/>
                  <a:pt x="687" y="2758"/>
                </a:cubicBezTo>
                <a:cubicBezTo>
                  <a:pt x="684" y="2746"/>
                  <a:pt x="666" y="2789"/>
                  <a:pt x="655" y="2782"/>
                </a:cubicBezTo>
                <a:cubicBezTo>
                  <a:pt x="547" y="2711"/>
                  <a:pt x="426" y="2662"/>
                  <a:pt x="319" y="2590"/>
                </a:cubicBezTo>
                <a:cubicBezTo>
                  <a:pt x="307" y="2582"/>
                  <a:pt x="295" y="2574"/>
                  <a:pt x="283" y="2566"/>
                </a:cubicBezTo>
                <a:cubicBezTo>
                  <a:pt x="224" y="2654"/>
                  <a:pt x="205" y="2594"/>
                  <a:pt x="103" y="2554"/>
                </a:cubicBezTo>
                <a:cubicBezTo>
                  <a:pt x="72" y="2542"/>
                  <a:pt x="39" y="2538"/>
                  <a:pt x="7" y="2530"/>
                </a:cubicBezTo>
                <a:cubicBezTo>
                  <a:pt x="11" y="2462"/>
                  <a:pt x="0" y="2391"/>
                  <a:pt x="19" y="2326"/>
                </a:cubicBezTo>
                <a:cubicBezTo>
                  <a:pt x="29" y="2291"/>
                  <a:pt x="72" y="2273"/>
                  <a:pt x="91" y="2242"/>
                </a:cubicBezTo>
                <a:cubicBezTo>
                  <a:pt x="104" y="2220"/>
                  <a:pt x="99" y="2189"/>
                  <a:pt x="115" y="2170"/>
                </a:cubicBezTo>
                <a:cubicBezTo>
                  <a:pt x="144" y="2135"/>
                  <a:pt x="189" y="2116"/>
                  <a:pt x="223" y="2086"/>
                </a:cubicBezTo>
                <a:cubicBezTo>
                  <a:pt x="261" y="2052"/>
                  <a:pt x="295" y="2014"/>
                  <a:pt x="331" y="1978"/>
                </a:cubicBezTo>
                <a:cubicBezTo>
                  <a:pt x="335" y="1966"/>
                  <a:pt x="349" y="1953"/>
                  <a:pt x="343" y="1942"/>
                </a:cubicBezTo>
                <a:cubicBezTo>
                  <a:pt x="292" y="1851"/>
                  <a:pt x="175" y="1802"/>
                  <a:pt x="79" y="1786"/>
                </a:cubicBezTo>
                <a:cubicBezTo>
                  <a:pt x="75" y="1746"/>
                  <a:pt x="74" y="1706"/>
                  <a:pt x="67" y="1666"/>
                </a:cubicBezTo>
                <a:cubicBezTo>
                  <a:pt x="62" y="1641"/>
                  <a:pt x="43" y="1619"/>
                  <a:pt x="43" y="1594"/>
                </a:cubicBezTo>
                <a:cubicBezTo>
                  <a:pt x="43" y="1562"/>
                  <a:pt x="148" y="1497"/>
                  <a:pt x="163" y="1486"/>
                </a:cubicBezTo>
                <a:cubicBezTo>
                  <a:pt x="177" y="1462"/>
                  <a:pt x="245" y="1350"/>
                  <a:pt x="247" y="1318"/>
                </a:cubicBezTo>
                <a:cubicBezTo>
                  <a:pt x="253" y="1226"/>
                  <a:pt x="244" y="1134"/>
                  <a:pt x="235" y="1042"/>
                </a:cubicBezTo>
                <a:cubicBezTo>
                  <a:pt x="232" y="1009"/>
                  <a:pt x="247" y="967"/>
                  <a:pt x="247" y="934"/>
                </a:cubicBezTo>
                <a:cubicBezTo>
                  <a:pt x="247" y="918"/>
                  <a:pt x="247" y="1120"/>
                  <a:pt x="247" y="1006"/>
                </a:cubicBez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62400" y="2514600"/>
            <a:ext cx="609480" cy="152280"/>
          </a:xfrm>
          <a:custGeom>
            <a:avLst/>
            <a:gdLst/>
            <a:ahLst/>
            <a:rect l="l" t="t" r="r" b="b"/>
            <a:pathLst>
              <a:path w="336" h="112">
                <a:moveTo>
                  <a:pt x="0" y="56"/>
                </a:moveTo>
                <a:cubicBezTo>
                  <a:pt x="28" y="28"/>
                  <a:pt x="56" y="0"/>
                  <a:pt x="96" y="8"/>
                </a:cubicBezTo>
                <a:cubicBezTo>
                  <a:pt x="136" y="16"/>
                  <a:pt x="200" y="96"/>
                  <a:pt x="240" y="104"/>
                </a:cubicBezTo>
                <a:cubicBezTo>
                  <a:pt x="280" y="112"/>
                  <a:pt x="308" y="84"/>
                  <a:pt x="336" y="5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24080" y="2514600"/>
            <a:ext cx="609840" cy="152280"/>
          </a:xfrm>
          <a:custGeom>
            <a:avLst/>
            <a:gdLst/>
            <a:ahLst/>
            <a:rect l="l" t="t" r="r" b="b"/>
            <a:pathLst>
              <a:path w="336" h="112">
                <a:moveTo>
                  <a:pt x="0" y="56"/>
                </a:moveTo>
                <a:cubicBezTo>
                  <a:pt x="28" y="28"/>
                  <a:pt x="56" y="0"/>
                  <a:pt x="96" y="8"/>
                </a:cubicBezTo>
                <a:cubicBezTo>
                  <a:pt x="136" y="16"/>
                  <a:pt x="200" y="96"/>
                  <a:pt x="240" y="104"/>
                </a:cubicBezTo>
                <a:cubicBezTo>
                  <a:pt x="280" y="112"/>
                  <a:pt x="308" y="84"/>
                  <a:pt x="336" y="5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2514600"/>
            <a:ext cx="609480" cy="152280"/>
          </a:xfrm>
          <a:custGeom>
            <a:avLst/>
            <a:gdLst/>
            <a:ahLst/>
            <a:rect l="l" t="t" r="r" b="b"/>
            <a:pathLst>
              <a:path w="336" h="112">
                <a:moveTo>
                  <a:pt x="0" y="56"/>
                </a:moveTo>
                <a:cubicBezTo>
                  <a:pt x="28" y="28"/>
                  <a:pt x="56" y="0"/>
                  <a:pt x="96" y="8"/>
                </a:cubicBezTo>
                <a:cubicBezTo>
                  <a:pt x="136" y="16"/>
                  <a:pt x="200" y="96"/>
                  <a:pt x="240" y="104"/>
                </a:cubicBezTo>
                <a:cubicBezTo>
                  <a:pt x="280" y="112"/>
                  <a:pt x="308" y="84"/>
                  <a:pt x="336" y="5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52760" y="2514600"/>
            <a:ext cx="609840" cy="152280"/>
          </a:xfrm>
          <a:custGeom>
            <a:avLst/>
            <a:gdLst/>
            <a:ahLst/>
            <a:rect l="l" t="t" r="r" b="b"/>
            <a:pathLst>
              <a:path w="336" h="112">
                <a:moveTo>
                  <a:pt x="0" y="56"/>
                </a:moveTo>
                <a:cubicBezTo>
                  <a:pt x="28" y="28"/>
                  <a:pt x="56" y="0"/>
                  <a:pt x="96" y="8"/>
                </a:cubicBezTo>
                <a:cubicBezTo>
                  <a:pt x="136" y="16"/>
                  <a:pt x="200" y="96"/>
                  <a:pt x="240" y="104"/>
                </a:cubicBezTo>
                <a:cubicBezTo>
                  <a:pt x="280" y="112"/>
                  <a:pt x="308" y="84"/>
                  <a:pt x="336" y="5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2514600"/>
            <a:ext cx="609840" cy="152280"/>
          </a:xfrm>
          <a:custGeom>
            <a:avLst/>
            <a:gdLst/>
            <a:ahLst/>
            <a:rect l="l" t="t" r="r" b="b"/>
            <a:pathLst>
              <a:path w="336" h="112">
                <a:moveTo>
                  <a:pt x="0" y="56"/>
                </a:moveTo>
                <a:cubicBezTo>
                  <a:pt x="28" y="28"/>
                  <a:pt x="56" y="0"/>
                  <a:pt x="96" y="8"/>
                </a:cubicBezTo>
                <a:cubicBezTo>
                  <a:pt x="136" y="16"/>
                  <a:pt x="200" y="96"/>
                  <a:pt x="240" y="104"/>
                </a:cubicBezTo>
                <a:cubicBezTo>
                  <a:pt x="280" y="112"/>
                  <a:pt x="308" y="84"/>
                  <a:pt x="336" y="5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53000" y="2514600"/>
            <a:ext cx="609840" cy="152280"/>
          </a:xfrm>
          <a:custGeom>
            <a:avLst/>
            <a:gdLst/>
            <a:ahLst/>
            <a:rect l="l" t="t" r="r" b="b"/>
            <a:pathLst>
              <a:path w="336" h="112">
                <a:moveTo>
                  <a:pt x="0" y="56"/>
                </a:moveTo>
                <a:cubicBezTo>
                  <a:pt x="28" y="28"/>
                  <a:pt x="56" y="0"/>
                  <a:pt x="96" y="8"/>
                </a:cubicBezTo>
                <a:cubicBezTo>
                  <a:pt x="136" y="16"/>
                  <a:pt x="200" y="96"/>
                  <a:pt x="240" y="104"/>
                </a:cubicBezTo>
                <a:cubicBezTo>
                  <a:pt x="280" y="112"/>
                  <a:pt x="308" y="84"/>
                  <a:pt x="336" y="5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72200" y="2514600"/>
            <a:ext cx="609480" cy="152280"/>
          </a:xfrm>
          <a:custGeom>
            <a:avLst/>
            <a:gdLst/>
            <a:ahLst/>
            <a:rect l="l" t="t" r="r" b="b"/>
            <a:pathLst>
              <a:path w="336" h="112">
                <a:moveTo>
                  <a:pt x="0" y="56"/>
                </a:moveTo>
                <a:cubicBezTo>
                  <a:pt x="28" y="28"/>
                  <a:pt x="56" y="0"/>
                  <a:pt x="96" y="8"/>
                </a:cubicBezTo>
                <a:cubicBezTo>
                  <a:pt x="136" y="16"/>
                  <a:pt x="200" y="96"/>
                  <a:pt x="240" y="104"/>
                </a:cubicBezTo>
                <a:cubicBezTo>
                  <a:pt x="280" y="112"/>
                  <a:pt x="308" y="84"/>
                  <a:pt x="336" y="5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76840" y="3735360"/>
            <a:ext cx="294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Dutch TL"/>
              </a:rPr>
              <a:t>ATKRITUMU “APGLABĀTĀ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IZMAK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3086400">
            <a:off x="3304080" y="5029920"/>
            <a:ext cx="16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utch TL"/>
              </a:rPr>
              <a:t>Kompānijas tē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18153600">
            <a:off x="5085360" y="499392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utch TL"/>
              </a:rPr>
              <a:t>Atbildī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582800">
            <a:off x="3794760" y="2881080"/>
            <a:ext cx="172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utch TL"/>
              </a:rPr>
              <a:t>Sistemātisku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utch TL"/>
              </a:rPr>
              <a:t>Piekrišana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9315200">
            <a:off x="4047120" y="1834560"/>
            <a:ext cx="1296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utch TL"/>
              </a:rPr>
              <a:t>Attīrīšana 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utch TL"/>
              </a:rPr>
              <a:t>likvidēša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9794000">
            <a:off x="4321800" y="4360320"/>
            <a:ext cx="2315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utch TL"/>
              </a:rPr>
              <a:t>Izejmateriālu, enerģija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utch TL"/>
              </a:rPr>
              <a:t>darba zaudēju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EBD9-13BC-488F-ABEB-8C5CACE352D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UNEP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914400"/>
          </a:xfrm>
          <a:prstGeom prst="rect">
            <a:avLst/>
          </a:prstGeom>
          <a:ln w="0">
            <a:noFill/>
          </a:ln>
        </p:spPr>
      </p:pic>
      <p:pic>
        <p:nvPicPr>
          <p:cNvPr id="226" name="cplogo" descr=""/>
          <p:cNvPicPr/>
          <p:nvPr/>
        </p:nvPicPr>
        <p:blipFill>
          <a:blip r:embed="rId2"/>
          <a:stretch/>
        </p:blipFill>
        <p:spPr>
          <a:xfrm>
            <a:off x="8434440" y="0"/>
            <a:ext cx="704880" cy="8571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295280" y="0"/>
            <a:ext cx="6705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Dutch TL"/>
              </a:rPr>
              <a:t>Tīrākās Ražošanas Finansēš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UNEP" descr=""/>
          <p:cNvPicPr/>
          <p:nvPr/>
        </p:nvPicPr>
        <p:blipFill>
          <a:blip r:embed="rId3"/>
          <a:stretch/>
        </p:blipFill>
        <p:spPr>
          <a:xfrm>
            <a:off x="0" y="0"/>
            <a:ext cx="977760" cy="1066680"/>
          </a:xfrm>
          <a:prstGeom prst="rect">
            <a:avLst/>
          </a:prstGeom>
          <a:ln w="0">
            <a:noFill/>
          </a:ln>
        </p:spPr>
      </p:pic>
      <p:pic>
        <p:nvPicPr>
          <p:cNvPr id="229" name="UNEP" descr=""/>
          <p:cNvPicPr/>
          <p:nvPr/>
        </p:nvPicPr>
        <p:blipFill>
          <a:blip r:embed="rId4"/>
          <a:stretch/>
        </p:blipFill>
        <p:spPr>
          <a:xfrm flipH="1" rot="10800000">
            <a:off x="1219320" y="6095520"/>
            <a:ext cx="533160" cy="7621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905120" y="6292800"/>
            <a:ext cx="596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ISION OF TECHNOLOGY, INDUSTRY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52680" y="30481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43000" y="1295280"/>
            <a:ext cx="7391520" cy="49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Dutch TL"/>
              </a:rPr>
              <a:t>Problēmjautājumi grāmatvedības uzskait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Dažādas “vides” izmaksas uzņēmumā var bū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apslēptas” grāmatvedības uzskaitē (reģist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kļūdas no ārpus oficiālajiem bankas kontiem, kas 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klasificēti kā fiksēti, bet tie reāli nav atrodam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grāmatvedības uzskait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(vai jūs variet iedomāties vēl kaut ko citu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F745-A767-4068-BCE7-B914EFFF4F2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UNEP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914400"/>
          </a:xfrm>
          <a:prstGeom prst="rect">
            <a:avLst/>
          </a:prstGeom>
          <a:ln w="0">
            <a:noFill/>
          </a:ln>
        </p:spPr>
      </p:pic>
      <p:pic>
        <p:nvPicPr>
          <p:cNvPr id="234" name="cplogo" descr=""/>
          <p:cNvPicPr/>
          <p:nvPr/>
        </p:nvPicPr>
        <p:blipFill>
          <a:blip r:embed="rId2"/>
          <a:stretch/>
        </p:blipFill>
        <p:spPr>
          <a:xfrm>
            <a:off x="8434440" y="0"/>
            <a:ext cx="704880" cy="8571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914400" y="0"/>
            <a:ext cx="74674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Dutch TL"/>
              </a:rPr>
              <a:t>Tīrākās Ražošanas Finansēš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Dutch TL"/>
              </a:rPr>
              <a:t>Vides pārvaldības “apslēptās” izmaksas </a:t>
            </a:r>
            <a:r>
              <a:rPr b="1" lang="en-US" sz="2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Dutch TL"/>
              </a:rPr>
              <a:t>neražojošās sfēras grāmatvedības atskaitē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UNEP" descr=""/>
          <p:cNvPicPr/>
          <p:nvPr/>
        </p:nvPicPr>
        <p:blipFill>
          <a:blip r:embed="rId3"/>
          <a:stretch/>
        </p:blipFill>
        <p:spPr>
          <a:xfrm>
            <a:off x="0" y="0"/>
            <a:ext cx="977760" cy="1066680"/>
          </a:xfrm>
          <a:prstGeom prst="rect">
            <a:avLst/>
          </a:prstGeom>
          <a:ln w="0">
            <a:noFill/>
          </a:ln>
        </p:spPr>
      </p:pic>
      <p:pic>
        <p:nvPicPr>
          <p:cNvPr id="237" name="UNEP" descr=""/>
          <p:cNvPicPr/>
          <p:nvPr/>
        </p:nvPicPr>
        <p:blipFill>
          <a:blip r:embed="rId4"/>
          <a:stretch/>
        </p:blipFill>
        <p:spPr>
          <a:xfrm flipH="1" rot="10800000">
            <a:off x="1219320" y="6095520"/>
            <a:ext cx="53316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905120" y="6292800"/>
            <a:ext cx="596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ISION OF TECHNOLOGY, INDUSTRY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30481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43000" y="12952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90920" y="1523880"/>
            <a:ext cx="3625560" cy="4692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666880" y="1752480"/>
            <a:ext cx="33102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Dutch TL"/>
              </a:rPr>
              <a:t>Product Manufacturing Cost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32040" y="2463840"/>
            <a:ext cx="1258920" cy="118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riable Cos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w Mater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termedia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diti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t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rect Lab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astewater Treat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14800" y="2666880"/>
            <a:ext cx="1979640" cy="130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Dutch TL"/>
              </a:rPr>
              <a:t>$2.27/lb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Dutch TL"/>
              </a:rPr>
              <a:t>$0.87/lb. $0.41/lb. $0.96/lb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Dutch TL"/>
              </a:rPr>
              <a:t>$11.32/lb. $10.31/lb. $9.14/lb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Dutch TL"/>
              </a:rPr>
              <a:t>$0.04/kW-h $0.07/kW-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Dutch TL"/>
              </a:rPr>
              <a:t>$27.40/hr  $31.43/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Dutch TL"/>
              </a:rPr>
              <a:t>$0.60/pkg.  $0.57/pk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Dutch TL"/>
              </a:rPr>
              <a:t>$0.01/g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4000680" y="2743200"/>
            <a:ext cx="1976400" cy="619200"/>
            <a:chOff x="4000680" y="2743200"/>
            <a:chExt cx="1976400" cy="619200"/>
          </a:xfrm>
        </p:grpSpPr>
        <p:sp>
          <p:nvSpPr>
            <p:cNvPr id="246" name=""/>
            <p:cNvSpPr/>
            <p:nvPr/>
          </p:nvSpPr>
          <p:spPr>
            <a:xfrm>
              <a:off x="4000680" y="2743200"/>
              <a:ext cx="19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00680" y="2867040"/>
              <a:ext cx="19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000680" y="2990880"/>
              <a:ext cx="19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000680" y="3114720"/>
              <a:ext cx="19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00680" y="3238560"/>
              <a:ext cx="19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00680" y="3362400"/>
              <a:ext cx="19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743200" y="3700440"/>
            <a:ext cx="1255680" cy="94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24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xed Cos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upervis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xed Lab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preci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visional Overhe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eneral Services &amp; Administ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006800" y="3824280"/>
            <a:ext cx="1981080" cy="81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$4,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$57,8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$1,2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$13,6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$1,2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4008600" y="3981600"/>
            <a:ext cx="1977840" cy="618840"/>
            <a:chOff x="4008600" y="3981600"/>
            <a:chExt cx="1977840" cy="618840"/>
          </a:xfrm>
        </p:grpSpPr>
        <p:sp>
          <p:nvSpPr>
            <p:cNvPr id="255" name=""/>
            <p:cNvSpPr/>
            <p:nvPr/>
          </p:nvSpPr>
          <p:spPr>
            <a:xfrm>
              <a:off x="4008600" y="3981600"/>
              <a:ext cx="19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08600" y="4105440"/>
              <a:ext cx="19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08600" y="4229280"/>
              <a:ext cx="19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08600" y="4352760"/>
              <a:ext cx="19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08600" y="4476600"/>
              <a:ext cx="19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008600" y="4600440"/>
              <a:ext cx="19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3456000" y="2009880"/>
            <a:ext cx="169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581280" y="1981080"/>
            <a:ext cx="1397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90840" y="2314440"/>
            <a:ext cx="18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84440" y="5838840"/>
            <a:ext cx="169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632040" y="5991120"/>
            <a:ext cx="1397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17840" y="6143760"/>
            <a:ext cx="182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987640" y="5033880"/>
            <a:ext cx="1981080" cy="57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Variable Co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Fixed Co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Manufacturing Co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Co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5094360" y="4981680"/>
            <a:ext cx="988920" cy="304560"/>
            <a:chOff x="5094360" y="4981680"/>
            <a:chExt cx="988920" cy="304560"/>
          </a:xfrm>
        </p:grpSpPr>
        <p:sp>
          <p:nvSpPr>
            <p:cNvPr id="269" name=""/>
            <p:cNvSpPr/>
            <p:nvPr/>
          </p:nvSpPr>
          <p:spPr>
            <a:xfrm>
              <a:off x="5130720" y="49816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210280" y="5133960"/>
              <a:ext cx="75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94360" y="5286240"/>
              <a:ext cx="9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5141880" y="54388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219640" y="5591160"/>
            <a:ext cx="75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10080" y="2133720"/>
            <a:ext cx="3297240" cy="22834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utch TL"/>
              </a:rPr>
              <a:t>Legālie izdev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utch TL"/>
              </a:rPr>
              <a:t>vides pētījumu attīstī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utch TL"/>
              </a:rPr>
              <a:t>atļauju laiks un atalgoj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utch TL"/>
              </a:rPr>
              <a:t>vides apmācī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35480" y="3411360"/>
            <a:ext cx="541080" cy="258840"/>
          </a:xfrm>
          <a:prstGeom prst="line">
            <a:avLst/>
          </a:prstGeom>
          <a:ln w="1260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435480" y="4622760"/>
            <a:ext cx="579240" cy="789120"/>
          </a:xfrm>
          <a:prstGeom prst="line">
            <a:avLst/>
          </a:prstGeom>
          <a:ln w="1260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27000" y="3395520"/>
            <a:ext cx="2489400" cy="28321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24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Fiksētās izmak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Inspek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Fiksētais darba spē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Cenas pazemināju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utch TL"/>
              </a:rPr>
              <a:t>Struktūrvienību pieskaitāmie izdevu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Vispārējie pakalpojumi &amp; administrāc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3090960" y="2881440"/>
            <a:ext cx="2328840" cy="1716120"/>
            <a:chOff x="3090960" y="2881440"/>
            <a:chExt cx="2328840" cy="1716120"/>
          </a:xfrm>
        </p:grpSpPr>
        <p:sp>
          <p:nvSpPr>
            <p:cNvPr id="279" name=""/>
            <p:cNvSpPr/>
            <p:nvPr/>
          </p:nvSpPr>
          <p:spPr>
            <a:xfrm>
              <a:off x="3090960" y="2895480"/>
              <a:ext cx="2328840" cy="1702080"/>
            </a:xfrm>
            <a:custGeom>
              <a:avLst/>
              <a:gdLst/>
              <a:ahLst/>
              <a:rect l="l" t="t" r="r" b="b"/>
              <a:pathLst>
                <a:path w="1467" h="1072">
                  <a:moveTo>
                    <a:pt x="0" y="1071"/>
                  </a:moveTo>
                  <a:lnTo>
                    <a:pt x="0" y="1003"/>
                  </a:lnTo>
                  <a:lnTo>
                    <a:pt x="25" y="951"/>
                  </a:lnTo>
                  <a:lnTo>
                    <a:pt x="46" y="909"/>
                  </a:lnTo>
                  <a:lnTo>
                    <a:pt x="76" y="859"/>
                  </a:lnTo>
                  <a:lnTo>
                    <a:pt x="113" y="803"/>
                  </a:lnTo>
                  <a:lnTo>
                    <a:pt x="147" y="764"/>
                  </a:lnTo>
                  <a:lnTo>
                    <a:pt x="193" y="707"/>
                  </a:lnTo>
                  <a:lnTo>
                    <a:pt x="239" y="652"/>
                  </a:lnTo>
                  <a:lnTo>
                    <a:pt x="285" y="602"/>
                  </a:lnTo>
                  <a:lnTo>
                    <a:pt x="345" y="541"/>
                  </a:lnTo>
                  <a:lnTo>
                    <a:pt x="391" y="501"/>
                  </a:lnTo>
                  <a:lnTo>
                    <a:pt x="455" y="451"/>
                  </a:lnTo>
                  <a:lnTo>
                    <a:pt x="527" y="396"/>
                  </a:lnTo>
                  <a:lnTo>
                    <a:pt x="599" y="346"/>
                  </a:lnTo>
                  <a:lnTo>
                    <a:pt x="653" y="311"/>
                  </a:lnTo>
                  <a:lnTo>
                    <a:pt x="732" y="276"/>
                  </a:lnTo>
                  <a:lnTo>
                    <a:pt x="797" y="251"/>
                  </a:lnTo>
                  <a:lnTo>
                    <a:pt x="866" y="231"/>
                  </a:lnTo>
                  <a:lnTo>
                    <a:pt x="939" y="216"/>
                  </a:lnTo>
                  <a:lnTo>
                    <a:pt x="982" y="214"/>
                  </a:lnTo>
                  <a:lnTo>
                    <a:pt x="1034" y="216"/>
                  </a:lnTo>
                  <a:lnTo>
                    <a:pt x="1073" y="221"/>
                  </a:lnTo>
                  <a:lnTo>
                    <a:pt x="1111" y="226"/>
                  </a:lnTo>
                  <a:lnTo>
                    <a:pt x="1142" y="236"/>
                  </a:lnTo>
                  <a:lnTo>
                    <a:pt x="1142" y="0"/>
                  </a:lnTo>
                  <a:lnTo>
                    <a:pt x="1180" y="60"/>
                  </a:lnTo>
                  <a:lnTo>
                    <a:pt x="1229" y="129"/>
                  </a:lnTo>
                  <a:lnTo>
                    <a:pt x="1280" y="197"/>
                  </a:lnTo>
                  <a:lnTo>
                    <a:pt x="1340" y="261"/>
                  </a:lnTo>
                  <a:lnTo>
                    <a:pt x="1385" y="297"/>
                  </a:lnTo>
                  <a:lnTo>
                    <a:pt x="1466" y="334"/>
                  </a:lnTo>
                  <a:lnTo>
                    <a:pt x="1465" y="386"/>
                  </a:lnTo>
                  <a:lnTo>
                    <a:pt x="1400" y="421"/>
                  </a:lnTo>
                  <a:lnTo>
                    <a:pt x="1331" y="460"/>
                  </a:lnTo>
                  <a:lnTo>
                    <a:pt x="1262" y="517"/>
                  </a:lnTo>
                  <a:lnTo>
                    <a:pt x="1206" y="572"/>
                  </a:lnTo>
                  <a:lnTo>
                    <a:pt x="1174" y="607"/>
                  </a:lnTo>
                  <a:lnTo>
                    <a:pt x="1139" y="664"/>
                  </a:lnTo>
                  <a:lnTo>
                    <a:pt x="1139" y="463"/>
                  </a:lnTo>
                  <a:lnTo>
                    <a:pt x="1073" y="451"/>
                  </a:lnTo>
                  <a:lnTo>
                    <a:pt x="1013" y="446"/>
                  </a:lnTo>
                  <a:lnTo>
                    <a:pt x="944" y="451"/>
                  </a:lnTo>
                  <a:lnTo>
                    <a:pt x="875" y="461"/>
                  </a:lnTo>
                  <a:lnTo>
                    <a:pt x="797" y="481"/>
                  </a:lnTo>
                  <a:lnTo>
                    <a:pt x="727" y="501"/>
                  </a:lnTo>
                  <a:lnTo>
                    <a:pt x="629" y="539"/>
                  </a:lnTo>
                  <a:lnTo>
                    <a:pt x="548" y="577"/>
                  </a:lnTo>
                  <a:lnTo>
                    <a:pt x="476" y="617"/>
                  </a:lnTo>
                  <a:lnTo>
                    <a:pt x="400" y="667"/>
                  </a:lnTo>
                  <a:lnTo>
                    <a:pt x="364" y="690"/>
                  </a:lnTo>
                  <a:lnTo>
                    <a:pt x="331" y="712"/>
                  </a:lnTo>
                  <a:lnTo>
                    <a:pt x="303" y="734"/>
                  </a:lnTo>
                  <a:lnTo>
                    <a:pt x="276" y="757"/>
                  </a:lnTo>
                  <a:lnTo>
                    <a:pt x="225" y="797"/>
                  </a:lnTo>
                  <a:lnTo>
                    <a:pt x="191" y="830"/>
                  </a:lnTo>
                  <a:lnTo>
                    <a:pt x="165" y="856"/>
                  </a:lnTo>
                  <a:lnTo>
                    <a:pt x="139" y="883"/>
                  </a:lnTo>
                  <a:lnTo>
                    <a:pt x="114" y="912"/>
                  </a:lnTo>
                  <a:lnTo>
                    <a:pt x="93" y="937"/>
                  </a:lnTo>
                  <a:lnTo>
                    <a:pt x="69" y="966"/>
                  </a:lnTo>
                  <a:lnTo>
                    <a:pt x="44" y="1002"/>
                  </a:lnTo>
                  <a:lnTo>
                    <a:pt x="20" y="1036"/>
                  </a:lnTo>
                  <a:lnTo>
                    <a:pt x="0" y="1071"/>
                  </a:lnTo>
                </a:path>
              </a:pathLst>
            </a:cu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92400" y="2881440"/>
              <a:ext cx="2327400" cy="1612800"/>
            </a:xfrm>
            <a:custGeom>
              <a:avLst/>
              <a:gdLst/>
              <a:ahLst/>
              <a:rect l="l" t="t" r="r" b="b"/>
              <a:pathLst>
                <a:path w="1466" h="1016">
                  <a:moveTo>
                    <a:pt x="0" y="1015"/>
                  </a:moveTo>
                  <a:lnTo>
                    <a:pt x="19" y="958"/>
                  </a:lnTo>
                  <a:lnTo>
                    <a:pt x="37" y="912"/>
                  </a:lnTo>
                  <a:lnTo>
                    <a:pt x="55" y="873"/>
                  </a:lnTo>
                  <a:lnTo>
                    <a:pt x="79" y="829"/>
                  </a:lnTo>
                  <a:lnTo>
                    <a:pt x="112" y="768"/>
                  </a:lnTo>
                  <a:lnTo>
                    <a:pt x="148" y="714"/>
                  </a:lnTo>
                  <a:lnTo>
                    <a:pt x="193" y="658"/>
                  </a:lnTo>
                  <a:lnTo>
                    <a:pt x="240" y="603"/>
                  </a:lnTo>
                  <a:lnTo>
                    <a:pt x="286" y="554"/>
                  </a:lnTo>
                  <a:lnTo>
                    <a:pt x="346" y="495"/>
                  </a:lnTo>
                  <a:lnTo>
                    <a:pt x="391" y="456"/>
                  </a:lnTo>
                  <a:lnTo>
                    <a:pt x="456" y="407"/>
                  </a:lnTo>
                  <a:lnTo>
                    <a:pt x="528" y="353"/>
                  </a:lnTo>
                  <a:lnTo>
                    <a:pt x="599" y="303"/>
                  </a:lnTo>
                  <a:lnTo>
                    <a:pt x="654" y="269"/>
                  </a:lnTo>
                  <a:lnTo>
                    <a:pt x="733" y="235"/>
                  </a:lnTo>
                  <a:lnTo>
                    <a:pt x="797" y="211"/>
                  </a:lnTo>
                  <a:lnTo>
                    <a:pt x="867" y="191"/>
                  </a:lnTo>
                  <a:lnTo>
                    <a:pt x="940" y="176"/>
                  </a:lnTo>
                  <a:lnTo>
                    <a:pt x="983" y="174"/>
                  </a:lnTo>
                  <a:lnTo>
                    <a:pt x="1034" y="176"/>
                  </a:lnTo>
                  <a:lnTo>
                    <a:pt x="1074" y="181"/>
                  </a:lnTo>
                  <a:lnTo>
                    <a:pt x="1111" y="186"/>
                  </a:lnTo>
                  <a:lnTo>
                    <a:pt x="1142" y="196"/>
                  </a:lnTo>
                  <a:lnTo>
                    <a:pt x="1142" y="0"/>
                  </a:lnTo>
                  <a:lnTo>
                    <a:pt x="1184" y="61"/>
                  </a:lnTo>
                  <a:lnTo>
                    <a:pt x="1225" y="118"/>
                  </a:lnTo>
                  <a:lnTo>
                    <a:pt x="1281" y="191"/>
                  </a:lnTo>
                  <a:lnTo>
                    <a:pt x="1341" y="250"/>
                  </a:lnTo>
                  <a:lnTo>
                    <a:pt x="1396" y="298"/>
                  </a:lnTo>
                  <a:lnTo>
                    <a:pt x="1465" y="343"/>
                  </a:lnTo>
                  <a:lnTo>
                    <a:pt x="1400" y="377"/>
                  </a:lnTo>
                  <a:lnTo>
                    <a:pt x="1333" y="417"/>
                  </a:lnTo>
                  <a:lnTo>
                    <a:pt x="1262" y="471"/>
                  </a:lnTo>
                  <a:lnTo>
                    <a:pt x="1207" y="525"/>
                  </a:lnTo>
                  <a:lnTo>
                    <a:pt x="1175" y="559"/>
                  </a:lnTo>
                  <a:lnTo>
                    <a:pt x="1140" y="616"/>
                  </a:lnTo>
                  <a:lnTo>
                    <a:pt x="1140" y="419"/>
                  </a:lnTo>
                  <a:lnTo>
                    <a:pt x="1074" y="407"/>
                  </a:lnTo>
                  <a:lnTo>
                    <a:pt x="1014" y="402"/>
                  </a:lnTo>
                  <a:lnTo>
                    <a:pt x="944" y="407"/>
                  </a:lnTo>
                  <a:lnTo>
                    <a:pt x="876" y="416"/>
                  </a:lnTo>
                  <a:lnTo>
                    <a:pt x="797" y="436"/>
                  </a:lnTo>
                  <a:lnTo>
                    <a:pt x="728" y="456"/>
                  </a:lnTo>
                  <a:lnTo>
                    <a:pt x="629" y="493"/>
                  </a:lnTo>
                  <a:lnTo>
                    <a:pt x="548" y="530"/>
                  </a:lnTo>
                  <a:lnTo>
                    <a:pt x="477" y="569"/>
                  </a:lnTo>
                  <a:lnTo>
                    <a:pt x="401" y="618"/>
                  </a:lnTo>
                  <a:lnTo>
                    <a:pt x="365" y="641"/>
                  </a:lnTo>
                  <a:lnTo>
                    <a:pt x="332" y="662"/>
                  </a:lnTo>
                  <a:lnTo>
                    <a:pt x="303" y="684"/>
                  </a:lnTo>
                  <a:lnTo>
                    <a:pt x="277" y="707"/>
                  </a:lnTo>
                  <a:lnTo>
                    <a:pt x="226" y="746"/>
                  </a:lnTo>
                  <a:lnTo>
                    <a:pt x="192" y="778"/>
                  </a:lnTo>
                  <a:lnTo>
                    <a:pt x="166" y="804"/>
                  </a:lnTo>
                  <a:lnTo>
                    <a:pt x="139" y="831"/>
                  </a:lnTo>
                  <a:lnTo>
                    <a:pt x="115" y="859"/>
                  </a:lnTo>
                  <a:lnTo>
                    <a:pt x="94" y="883"/>
                  </a:lnTo>
                  <a:lnTo>
                    <a:pt x="69" y="912"/>
                  </a:lnTo>
                  <a:lnTo>
                    <a:pt x="45" y="947"/>
                  </a:lnTo>
                  <a:lnTo>
                    <a:pt x="21" y="980"/>
                  </a:lnTo>
                  <a:lnTo>
                    <a:pt x="0" y="1015"/>
                  </a:lnTo>
                </a:path>
              </a:pathLst>
            </a:cu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0788-4814-421B-9EB4-76E7F235A94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UNEP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914400"/>
          </a:xfrm>
          <a:prstGeom prst="rect">
            <a:avLst/>
          </a:prstGeom>
          <a:ln w="0">
            <a:noFill/>
          </a:ln>
        </p:spPr>
      </p:pic>
      <p:pic>
        <p:nvPicPr>
          <p:cNvPr id="282" name="cplogo" descr=""/>
          <p:cNvPicPr/>
          <p:nvPr/>
        </p:nvPicPr>
        <p:blipFill>
          <a:blip r:embed="rId2"/>
          <a:stretch/>
        </p:blipFill>
        <p:spPr>
          <a:xfrm>
            <a:off x="8434440" y="0"/>
            <a:ext cx="704880" cy="8571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295280" y="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Dutch TL"/>
              </a:rPr>
              <a:t>Tīrākās Ražošanas Finansēš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UNEP" descr=""/>
          <p:cNvPicPr/>
          <p:nvPr/>
        </p:nvPicPr>
        <p:blipFill>
          <a:blip r:embed="rId3"/>
          <a:stretch/>
        </p:blipFill>
        <p:spPr>
          <a:xfrm>
            <a:off x="0" y="0"/>
            <a:ext cx="977760" cy="1066680"/>
          </a:xfrm>
          <a:prstGeom prst="rect">
            <a:avLst/>
          </a:prstGeom>
          <a:ln w="0">
            <a:noFill/>
          </a:ln>
        </p:spPr>
      </p:pic>
      <p:pic>
        <p:nvPicPr>
          <p:cNvPr id="285" name="UNEP" descr=""/>
          <p:cNvPicPr/>
          <p:nvPr/>
        </p:nvPicPr>
        <p:blipFill>
          <a:blip r:embed="rId4"/>
          <a:stretch/>
        </p:blipFill>
        <p:spPr>
          <a:xfrm flipH="1" rot="10800000">
            <a:off x="1219320" y="6095520"/>
            <a:ext cx="533160" cy="7621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905120" y="6292800"/>
            <a:ext cx="596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ISION OF TECHNOLOGY, INDUSTRY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0" y="39625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990720" y="1371600"/>
            <a:ext cx="731520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Dutch TL"/>
              </a:rPr>
              <a:t>Rūpniecības grāmatvedības pārsk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Rezultāt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Vides pārvaldības izmaksas tādas kā atkritumu saimniecības vadīšana, attīrīšana &amp; likvidēšana pārsvarā tiek asignētas kā pieskaitāmie izdevum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Pat enerģijas un ūdens izmaksas parasti tiek asignētas kā pieskaitāmie izdev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679D-E973-470C-8796-863B1156B84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UNEP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914400"/>
          </a:xfrm>
          <a:prstGeom prst="rect">
            <a:avLst/>
          </a:prstGeom>
          <a:ln w="0">
            <a:noFill/>
          </a:ln>
        </p:spPr>
      </p:pic>
      <p:pic>
        <p:nvPicPr>
          <p:cNvPr id="290" name="cplogo" descr=""/>
          <p:cNvPicPr/>
          <p:nvPr/>
        </p:nvPicPr>
        <p:blipFill>
          <a:blip r:embed="rId2"/>
          <a:stretch/>
        </p:blipFill>
        <p:spPr>
          <a:xfrm>
            <a:off x="8434440" y="0"/>
            <a:ext cx="704880" cy="8571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95280" y="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Dutch TL"/>
              </a:rPr>
              <a:t>Tīrākās Ražošanas Finansēš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UNEP" descr=""/>
          <p:cNvPicPr/>
          <p:nvPr/>
        </p:nvPicPr>
        <p:blipFill>
          <a:blip r:embed="rId3"/>
          <a:stretch/>
        </p:blipFill>
        <p:spPr>
          <a:xfrm>
            <a:off x="0" y="0"/>
            <a:ext cx="977760" cy="1066680"/>
          </a:xfrm>
          <a:prstGeom prst="rect">
            <a:avLst/>
          </a:prstGeom>
          <a:ln w="0">
            <a:noFill/>
          </a:ln>
        </p:spPr>
      </p:pic>
      <p:pic>
        <p:nvPicPr>
          <p:cNvPr id="293" name="UNEP" descr=""/>
          <p:cNvPicPr/>
          <p:nvPr/>
        </p:nvPicPr>
        <p:blipFill>
          <a:blip r:embed="rId4"/>
          <a:stretch/>
        </p:blipFill>
        <p:spPr>
          <a:xfrm flipH="1" rot="10800000">
            <a:off x="1219320" y="6095520"/>
            <a:ext cx="533160" cy="7621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905120" y="6292800"/>
            <a:ext cx="596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ISION OF TECHNOLOGY, INDUSTRY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39625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90720" y="1371600"/>
            <a:ext cx="7315200" cy="54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utch TL"/>
              </a:rPr>
              <a:t>Fiksētās mainīgās izmaks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Tīrākas ražošanas mērķis ir samazināt atkritumu izmaksu </a:t>
            </a:r>
            <a:r>
              <a:rPr b="0" lang="en-US" sz="3200" spc="-1" strike="noStrike">
                <a:solidFill>
                  <a:srgbClr val="3333cc"/>
                </a:solidFill>
                <a:latin typeface="Dutch TL"/>
              </a:rPr>
              <a:t>mainīgās</a:t>
            </a: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 sastāvdaļ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Tādēļ ir ļoti svarīgi nodalīt fiksētās un mainīgās izmaksas, lai identificētu un novērtētu TR sasniegumu izmak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Ja TR sasniegumi samazinās izmaksas, tad tās ir mainīgā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666F-9EF3-4015-A72D-50B98DB25E7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UNEP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914400"/>
          </a:xfrm>
          <a:prstGeom prst="rect">
            <a:avLst/>
          </a:prstGeom>
          <a:ln w="0">
            <a:noFill/>
          </a:ln>
        </p:spPr>
      </p:pic>
      <p:pic>
        <p:nvPicPr>
          <p:cNvPr id="298" name="cplogo" descr=""/>
          <p:cNvPicPr/>
          <p:nvPr/>
        </p:nvPicPr>
        <p:blipFill>
          <a:blip r:embed="rId2"/>
          <a:stretch/>
        </p:blipFill>
        <p:spPr>
          <a:xfrm>
            <a:off x="8434440" y="0"/>
            <a:ext cx="704880" cy="8571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1295280" y="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Dutch TL"/>
              </a:rPr>
              <a:t>Tīrākās Ražošanas Finansēš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UNEP" descr=""/>
          <p:cNvPicPr/>
          <p:nvPr/>
        </p:nvPicPr>
        <p:blipFill>
          <a:blip r:embed="rId3"/>
          <a:stretch/>
        </p:blipFill>
        <p:spPr>
          <a:xfrm>
            <a:off x="0" y="0"/>
            <a:ext cx="977760" cy="1066680"/>
          </a:xfrm>
          <a:prstGeom prst="rect">
            <a:avLst/>
          </a:prstGeom>
          <a:ln w="0">
            <a:noFill/>
          </a:ln>
        </p:spPr>
      </p:pic>
      <p:pic>
        <p:nvPicPr>
          <p:cNvPr id="301" name="UNEP" descr=""/>
          <p:cNvPicPr/>
          <p:nvPr/>
        </p:nvPicPr>
        <p:blipFill>
          <a:blip r:embed="rId4"/>
          <a:stretch/>
        </p:blipFill>
        <p:spPr>
          <a:xfrm flipH="1" rot="10800000">
            <a:off x="1219320" y="6095520"/>
            <a:ext cx="533160" cy="7621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905120" y="6292800"/>
            <a:ext cx="596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ISION OF TECHNOLOGY, INDUSTRY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0" y="39625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90720" y="1371600"/>
            <a:ext cx="7315200" cy="25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utch T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Dutch TL"/>
              </a:rPr>
              <a:t>Ir ļoti svarīgi atcerē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Nākotnē fiksētās izmaksas vēl nav fiksēta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Tīrāka ražošana tagad var samazināt attīrīšanas iekārtu lielumu &amp; izmak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Jums nāoktnē būs vērtī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722C-6C4C-4F72-85F4-1B2C5509DA1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UNEP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914400"/>
          </a:xfrm>
          <a:prstGeom prst="rect">
            <a:avLst/>
          </a:prstGeom>
          <a:ln w="0">
            <a:noFill/>
          </a:ln>
        </p:spPr>
      </p:pic>
      <p:pic>
        <p:nvPicPr>
          <p:cNvPr id="56" name="cplogo" descr=""/>
          <p:cNvPicPr/>
          <p:nvPr/>
        </p:nvPicPr>
        <p:blipFill>
          <a:blip r:embed="rId2"/>
          <a:stretch/>
        </p:blipFill>
        <p:spPr>
          <a:xfrm>
            <a:off x="8434440" y="0"/>
            <a:ext cx="704880" cy="857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95280" y="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Dutch TL"/>
              </a:rPr>
              <a:t>Tīrākās Ražošanas Finansēš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UNEP" descr=""/>
          <p:cNvPicPr/>
          <p:nvPr/>
        </p:nvPicPr>
        <p:blipFill>
          <a:blip r:embed="rId3"/>
          <a:stretch/>
        </p:blipFill>
        <p:spPr>
          <a:xfrm>
            <a:off x="0" y="0"/>
            <a:ext cx="977760" cy="1066680"/>
          </a:xfrm>
          <a:prstGeom prst="rect">
            <a:avLst/>
          </a:prstGeom>
          <a:ln w="0">
            <a:noFill/>
          </a:ln>
        </p:spPr>
      </p:pic>
      <p:pic>
        <p:nvPicPr>
          <p:cNvPr id="59" name="UNEP" descr=""/>
          <p:cNvPicPr/>
          <p:nvPr/>
        </p:nvPicPr>
        <p:blipFill>
          <a:blip r:embed="rId4"/>
          <a:stretch/>
        </p:blipFill>
        <p:spPr>
          <a:xfrm flipH="1" rot="10800000">
            <a:off x="1219320" y="6095520"/>
            <a:ext cx="533160" cy="762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905120" y="6292800"/>
            <a:ext cx="596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ISION OF TECHNOLOGY, INDUSTRY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1295280"/>
            <a:ext cx="7848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Dutch TL"/>
              </a:rPr>
              <a:t>Izdevība un aicinājum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Dutch TL"/>
              </a:rPr>
              <a:t>Globalizācijas un starptautisko apgādes sakaru izdevī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Dutch T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Dutch T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Dutch TL"/>
              </a:rPr>
              <a:t>Izdevība, lai palielinātu patērētāju prasību videi draudzīgu konkurējošu produktu ražošan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730D-ACCD-4D91-B108-328CDD003A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UNEP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914400"/>
          </a:xfrm>
          <a:prstGeom prst="rect">
            <a:avLst/>
          </a:prstGeom>
          <a:ln w="0">
            <a:noFill/>
          </a:ln>
        </p:spPr>
      </p:pic>
      <p:pic>
        <p:nvPicPr>
          <p:cNvPr id="306" name="cplogo" descr=""/>
          <p:cNvPicPr/>
          <p:nvPr/>
        </p:nvPicPr>
        <p:blipFill>
          <a:blip r:embed="rId2"/>
          <a:stretch/>
        </p:blipFill>
        <p:spPr>
          <a:xfrm>
            <a:off x="8434440" y="0"/>
            <a:ext cx="704880" cy="8571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1295280" y="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Dutch TL"/>
              </a:rPr>
              <a:t>Tīrākās Ražošanas Finansēš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UNEP" descr=""/>
          <p:cNvPicPr/>
          <p:nvPr/>
        </p:nvPicPr>
        <p:blipFill>
          <a:blip r:embed="rId3"/>
          <a:stretch/>
        </p:blipFill>
        <p:spPr>
          <a:xfrm>
            <a:off x="0" y="0"/>
            <a:ext cx="977760" cy="1066680"/>
          </a:xfrm>
          <a:prstGeom prst="rect">
            <a:avLst/>
          </a:prstGeom>
          <a:ln w="0">
            <a:noFill/>
          </a:ln>
        </p:spPr>
      </p:pic>
      <p:pic>
        <p:nvPicPr>
          <p:cNvPr id="309" name="UNEP" descr=""/>
          <p:cNvPicPr/>
          <p:nvPr/>
        </p:nvPicPr>
        <p:blipFill>
          <a:blip r:embed="rId4"/>
          <a:stretch/>
        </p:blipFill>
        <p:spPr>
          <a:xfrm flipH="1" rot="10800000">
            <a:off x="1219320" y="6095520"/>
            <a:ext cx="533160" cy="7621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1905120" y="6292800"/>
            <a:ext cx="596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ISION OF TECHNOLOGY, INDUSTRY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0" y="39625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143000" y="914400"/>
            <a:ext cx="6781680" cy="55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Dutch TL"/>
              </a:rPr>
              <a:t>Iztrūkstošās izmaksas grāmatvedības uzskait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Vispārīgi divu izmaksu veidi var pilnīgi iztrūkt no grāmatvedības uzskaitē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Dutch T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Dutch TL"/>
              </a:rPr>
              <a:t>Izmaksas nākotn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Dutch TL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Dutch TL"/>
              </a:rPr>
              <a:t>-  nākotnes mainīgās izmaksas, piemēram, atalgojums atkritumu poligon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Dutch TL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Dutch TL"/>
              </a:rPr>
              <a:t>- nākotnes fiksētās izmaksas, piemēram, nākotnes jaunu atkritumu attīrīšanas iekārtu izmaksu samazināj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Dutch T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Dutch TL"/>
              </a:rPr>
              <a:t>Mazākas reālās izmaksas</a:t>
            </a: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Dutch TL"/>
              </a:rPr>
              <a:t>-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Dutch TL"/>
              </a:rPr>
              <a:t>piemēram, ieguvumu zaudējums no samazinātās ražošanas apj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132F-836C-4BCB-99AC-3E7CC2A62B0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UNEP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914400"/>
          </a:xfrm>
          <a:prstGeom prst="rect">
            <a:avLst/>
          </a:prstGeom>
          <a:ln w="0">
            <a:noFill/>
          </a:ln>
        </p:spPr>
      </p:pic>
      <p:pic>
        <p:nvPicPr>
          <p:cNvPr id="314" name="cplogo" descr=""/>
          <p:cNvPicPr/>
          <p:nvPr/>
        </p:nvPicPr>
        <p:blipFill>
          <a:blip r:embed="rId2"/>
          <a:stretch/>
        </p:blipFill>
        <p:spPr>
          <a:xfrm>
            <a:off x="8434440" y="0"/>
            <a:ext cx="704880" cy="8571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295280" y="0"/>
            <a:ext cx="6705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Dutch TL"/>
              </a:rPr>
              <a:t>Tīrākās Ražošanas Finansēš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utch T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Dutch TL"/>
              </a:rPr>
              <a:t>Ease of Identifying and Estimating Cost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UNEP" descr=""/>
          <p:cNvPicPr/>
          <p:nvPr/>
        </p:nvPicPr>
        <p:blipFill>
          <a:blip r:embed="rId3"/>
          <a:stretch/>
        </p:blipFill>
        <p:spPr>
          <a:xfrm>
            <a:off x="0" y="0"/>
            <a:ext cx="977760" cy="1066680"/>
          </a:xfrm>
          <a:prstGeom prst="rect">
            <a:avLst/>
          </a:prstGeom>
          <a:ln w="0">
            <a:noFill/>
          </a:ln>
        </p:spPr>
      </p:pic>
      <p:pic>
        <p:nvPicPr>
          <p:cNvPr id="317" name="UNEP" descr=""/>
          <p:cNvPicPr/>
          <p:nvPr/>
        </p:nvPicPr>
        <p:blipFill>
          <a:blip r:embed="rId4"/>
          <a:stretch/>
        </p:blipFill>
        <p:spPr>
          <a:xfrm flipH="1" rot="10800000">
            <a:off x="1219320" y="6095520"/>
            <a:ext cx="533160" cy="7621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1905120" y="6292800"/>
            <a:ext cx="596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ISION OF TECHNOLOGY, INDUSTRY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0" y="39625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90720" y="13716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86200" y="914400"/>
            <a:ext cx="4876920" cy="63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iekārtu vērtī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tiešie materiāli, enerģija, &amp;  darba spē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atkritumu likvidē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otrreizēja izmantošana/pārstrā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attīrī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atkritumu saimniecības vadī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regulāra piekriša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citas netiešās izmak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mazāk reālas izmak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676520"/>
            <a:ext cx="1143000" cy="4800600"/>
          </a:xfrm>
          <a:prstGeom prst="downArrow">
            <a:avLst>
              <a:gd name="adj1" fmla="val 50000"/>
              <a:gd name="adj2" fmla="val 105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" y="838080"/>
            <a:ext cx="1828800" cy="55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Vispārīgi, šajā lapā virzienā uz lej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izmaksām ir iespējams būt vairāk noslēptām vai ir grūti noteikt to lielu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(bet katrs gadījums ir atšķirīgs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1920-8E74-4413-A3C0-6373F439302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UNEP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914400"/>
          </a:xfrm>
          <a:prstGeom prst="rect">
            <a:avLst/>
          </a:prstGeom>
          <a:ln w="0">
            <a:noFill/>
          </a:ln>
        </p:spPr>
      </p:pic>
      <p:pic>
        <p:nvPicPr>
          <p:cNvPr id="325" name="cplogo" descr=""/>
          <p:cNvPicPr/>
          <p:nvPr/>
        </p:nvPicPr>
        <p:blipFill>
          <a:blip r:embed="rId2"/>
          <a:stretch/>
        </p:blipFill>
        <p:spPr>
          <a:xfrm>
            <a:off x="8434440" y="0"/>
            <a:ext cx="704880" cy="8571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295280" y="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Dutch TL"/>
              </a:rPr>
              <a:t>Tīrākās Ražošanas Finansēš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UNEP" descr=""/>
          <p:cNvPicPr/>
          <p:nvPr/>
        </p:nvPicPr>
        <p:blipFill>
          <a:blip r:embed="rId3"/>
          <a:stretch/>
        </p:blipFill>
        <p:spPr>
          <a:xfrm>
            <a:off x="0" y="0"/>
            <a:ext cx="977760" cy="1066680"/>
          </a:xfrm>
          <a:prstGeom prst="rect">
            <a:avLst/>
          </a:prstGeom>
          <a:ln w="0">
            <a:noFill/>
          </a:ln>
        </p:spPr>
      </p:pic>
      <p:pic>
        <p:nvPicPr>
          <p:cNvPr id="328" name="UNEP" descr=""/>
          <p:cNvPicPr/>
          <p:nvPr/>
        </p:nvPicPr>
        <p:blipFill>
          <a:blip r:embed="rId4"/>
          <a:stretch/>
        </p:blipFill>
        <p:spPr>
          <a:xfrm flipH="1" rot="10800000">
            <a:off x="1219320" y="6095520"/>
            <a:ext cx="533160" cy="762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905120" y="6292800"/>
            <a:ext cx="596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ISION OF TECHNOLOGY, INDUSTRY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0" y="39625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90720" y="1295280"/>
            <a:ext cx="7086600" cy="40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teikt vai nenoteikt lielum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Cik jums zināms, vai būtiskās izmaksas vai ekonomija ir lieluma ziņā svarīgas pirms jūs nosakat to lielum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Jūs nezinā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Mēģiniet vismaz aptuveni to noteikt, pirmkārt - saīsinātā veidā novērtēt visas iespējamas izmaksas - tad nolemjiet, vai novērtējumam ir vērtī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BB08-3D61-4471-B86D-88BE05D925D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UNEP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914400"/>
          </a:xfrm>
          <a:prstGeom prst="rect">
            <a:avLst/>
          </a:prstGeom>
          <a:ln w="0">
            <a:noFill/>
          </a:ln>
        </p:spPr>
      </p:pic>
      <p:pic>
        <p:nvPicPr>
          <p:cNvPr id="333" name="cplogo" descr=""/>
          <p:cNvPicPr/>
          <p:nvPr/>
        </p:nvPicPr>
        <p:blipFill>
          <a:blip r:embed="rId2"/>
          <a:stretch/>
        </p:blipFill>
        <p:spPr>
          <a:xfrm>
            <a:off x="8434440" y="0"/>
            <a:ext cx="704880" cy="8571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295280" y="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Dutch TL"/>
              </a:rPr>
              <a:t>Tīrākās Ražošanas Finansēš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UNEP" descr=""/>
          <p:cNvPicPr/>
          <p:nvPr/>
        </p:nvPicPr>
        <p:blipFill>
          <a:blip r:embed="rId3"/>
          <a:stretch/>
        </p:blipFill>
        <p:spPr>
          <a:xfrm>
            <a:off x="0" y="0"/>
            <a:ext cx="977760" cy="1066680"/>
          </a:xfrm>
          <a:prstGeom prst="rect">
            <a:avLst/>
          </a:prstGeom>
          <a:ln w="0">
            <a:noFill/>
          </a:ln>
        </p:spPr>
      </p:pic>
      <p:pic>
        <p:nvPicPr>
          <p:cNvPr id="336" name="UNEP" descr=""/>
          <p:cNvPicPr/>
          <p:nvPr/>
        </p:nvPicPr>
        <p:blipFill>
          <a:blip r:embed="rId4"/>
          <a:stretch/>
        </p:blipFill>
        <p:spPr>
          <a:xfrm flipH="1" rot="10800000">
            <a:off x="1219320" y="6095520"/>
            <a:ext cx="533160" cy="76212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1905120" y="6292800"/>
            <a:ext cx="596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ISION OF TECHNOLOGY, INDUSTRY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0" y="39625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90720" y="1295280"/>
            <a:ext cx="7086600" cy="4208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utch T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Dutch TL"/>
              </a:rPr>
              <a:t>Veikt bilanci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Neizlietojiet vairāk laiku kā nepieciešams datu savākšanai un analīz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Dutch TL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B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Pārliecinieties, ka jūs esiet analizējis pilnīgi visas svarīgākās izmaksas &amp; ietaupīju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Pārliecinieties, ka jūs neesiet palaidis garām citas tās pašas atkritumu plūsmas alternatīvas, kas varētu būt pat derīgāka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6673-C40A-4273-8ACF-549F78CAA39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UNEP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914400"/>
          </a:xfrm>
          <a:prstGeom prst="rect">
            <a:avLst/>
          </a:prstGeom>
          <a:ln w="0">
            <a:noFill/>
          </a:ln>
        </p:spPr>
      </p:pic>
      <p:pic>
        <p:nvPicPr>
          <p:cNvPr id="341" name="cplogo" descr=""/>
          <p:cNvPicPr/>
          <p:nvPr/>
        </p:nvPicPr>
        <p:blipFill>
          <a:blip r:embed="rId2"/>
          <a:stretch/>
        </p:blipFill>
        <p:spPr>
          <a:xfrm>
            <a:off x="8434440" y="0"/>
            <a:ext cx="704880" cy="8571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1295280" y="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Dutch TL"/>
              </a:rPr>
              <a:t>Tīrākās Ražošanas Finansēš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UNEP" descr=""/>
          <p:cNvPicPr/>
          <p:nvPr/>
        </p:nvPicPr>
        <p:blipFill>
          <a:blip r:embed="rId3"/>
          <a:stretch/>
        </p:blipFill>
        <p:spPr>
          <a:xfrm>
            <a:off x="0" y="0"/>
            <a:ext cx="977760" cy="1066680"/>
          </a:xfrm>
          <a:prstGeom prst="rect">
            <a:avLst/>
          </a:prstGeom>
          <a:ln w="0">
            <a:noFill/>
          </a:ln>
        </p:spPr>
      </p:pic>
      <p:pic>
        <p:nvPicPr>
          <p:cNvPr id="344" name="UNEP" descr=""/>
          <p:cNvPicPr/>
          <p:nvPr/>
        </p:nvPicPr>
        <p:blipFill>
          <a:blip r:embed="rId4"/>
          <a:stretch/>
        </p:blipFill>
        <p:spPr>
          <a:xfrm flipH="1" rot="10800000">
            <a:off x="1219320" y="6095520"/>
            <a:ext cx="533160" cy="7621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1905120" y="6292800"/>
            <a:ext cx="596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ISION OF TECHNOLOGY, INDUSTRY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9625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914400"/>
            <a:ext cx="7086600" cy="52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Dutch TL"/>
              </a:rPr>
              <a:t>Izmaksu identifikācija &amp; novērtēj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Dutch T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Dutch TL"/>
              </a:rPr>
              <a:t>Līdzekļu kopsavilkums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Strādāt komandā - apspriesties ar kat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Zināt vi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Plānot procesa soļus, materiālu plūsmas, darbinieku aktivitātes ut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Veikt materiālu un enerģijas bi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Lietot saprātīguizdevumu/ietaupījumu kontrolla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Mazāk reālu izdevumu ārējā  ekspertī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86FB-7989-4594-92B1-DEEB9F1575E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UNEP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914400"/>
          </a:xfrm>
          <a:prstGeom prst="rect">
            <a:avLst/>
          </a:prstGeom>
          <a:ln w="0">
            <a:noFill/>
          </a:ln>
        </p:spPr>
      </p:pic>
      <p:pic>
        <p:nvPicPr>
          <p:cNvPr id="349" name="cplogo" descr=""/>
          <p:cNvPicPr/>
          <p:nvPr/>
        </p:nvPicPr>
        <p:blipFill>
          <a:blip r:embed="rId2"/>
          <a:stretch/>
        </p:blipFill>
        <p:spPr>
          <a:xfrm>
            <a:off x="8434440" y="0"/>
            <a:ext cx="704880" cy="8571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1295280" y="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Dutch TL"/>
              </a:rPr>
              <a:t>Tīrākās Ražošanas Finansēš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UNEP" descr=""/>
          <p:cNvPicPr/>
          <p:nvPr/>
        </p:nvPicPr>
        <p:blipFill>
          <a:blip r:embed="rId3"/>
          <a:stretch/>
        </p:blipFill>
        <p:spPr>
          <a:xfrm>
            <a:off x="0" y="0"/>
            <a:ext cx="977760" cy="1066680"/>
          </a:xfrm>
          <a:prstGeom prst="rect">
            <a:avLst/>
          </a:prstGeom>
          <a:ln w="0">
            <a:noFill/>
          </a:ln>
        </p:spPr>
      </p:pic>
      <p:pic>
        <p:nvPicPr>
          <p:cNvPr id="352" name="UNEP" descr=""/>
          <p:cNvPicPr/>
          <p:nvPr/>
        </p:nvPicPr>
        <p:blipFill>
          <a:blip r:embed="rId4"/>
          <a:stretch/>
        </p:blipFill>
        <p:spPr>
          <a:xfrm flipH="1" rot="10800000">
            <a:off x="1219320" y="6095520"/>
            <a:ext cx="533160" cy="7621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1905120" y="6292800"/>
            <a:ext cx="596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ISION OF TECHNOLOGY, INDUSTRY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572000" y="39625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90720" y="762120"/>
            <a:ext cx="7086600" cy="59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Dutch TL"/>
              </a:rPr>
              <a:t>Izmaksu identifikācija &amp; novērtēj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Dutch T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Dutch TL"/>
              </a:rPr>
              <a:t>Līdzekļu kopsavilkum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Kontrolēt grāmatvedības uzskaites dat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- pieskaitāmo izdevumu atbilstoša nodalī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- rūpīga fiksēto, arī mainīgo izmaksu raksturo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Salīdzināt grāmatvedības uzskaites datus ar jū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plānoto informāciju par materiālu bilanci, personā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intervijā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Atgriezties pie oriģinālo datu avot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Radoši domā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0951-4F90-4EF9-ACB8-86D7453E36B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UNEP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914400"/>
          </a:xfrm>
          <a:prstGeom prst="rect">
            <a:avLst/>
          </a:prstGeom>
          <a:ln w="0">
            <a:noFill/>
          </a:ln>
        </p:spPr>
      </p:pic>
      <p:pic>
        <p:nvPicPr>
          <p:cNvPr id="357" name="cplogo" descr=""/>
          <p:cNvPicPr/>
          <p:nvPr/>
        </p:nvPicPr>
        <p:blipFill>
          <a:blip r:embed="rId2"/>
          <a:stretch/>
        </p:blipFill>
        <p:spPr>
          <a:xfrm>
            <a:off x="8434440" y="0"/>
            <a:ext cx="704880" cy="8571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1295280" y="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Dutch TL"/>
              </a:rPr>
              <a:t>Tīrākās Ražošanas Finansēš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UNEP" descr=""/>
          <p:cNvPicPr/>
          <p:nvPr/>
        </p:nvPicPr>
        <p:blipFill>
          <a:blip r:embed="rId3"/>
          <a:stretch/>
        </p:blipFill>
        <p:spPr>
          <a:xfrm>
            <a:off x="0" y="0"/>
            <a:ext cx="977760" cy="1066680"/>
          </a:xfrm>
          <a:prstGeom prst="rect">
            <a:avLst/>
          </a:prstGeom>
          <a:ln w="0">
            <a:noFill/>
          </a:ln>
        </p:spPr>
      </p:pic>
      <p:pic>
        <p:nvPicPr>
          <p:cNvPr id="360" name="UNEP" descr=""/>
          <p:cNvPicPr/>
          <p:nvPr/>
        </p:nvPicPr>
        <p:blipFill>
          <a:blip r:embed="rId4"/>
          <a:stretch/>
        </p:blipFill>
        <p:spPr>
          <a:xfrm flipH="1" rot="10800000">
            <a:off x="1219320" y="6095520"/>
            <a:ext cx="533160" cy="7621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1905120" y="6292800"/>
            <a:ext cx="596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ISION OF TECHNOLOGY, INDUSTRY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0" y="39625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990720" y="1295280"/>
            <a:ext cx="7086600" cy="40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utch T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Dutch TL"/>
              </a:rPr>
              <a:t>Lietuvas piemē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Kopuzņēmums “Vilniaus Vingis” - transformātoru un tml. preču ražo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 “</a:t>
            </a: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Ekranas” - zinka un hroma pārklāj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 “</a:t>
            </a: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Linu audiniai” -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36CF-86C6-4EFC-BA79-2040FAB466B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UNEP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914400"/>
          </a:xfrm>
          <a:prstGeom prst="rect">
            <a:avLst/>
          </a:prstGeom>
          <a:ln w="0">
            <a:noFill/>
          </a:ln>
        </p:spPr>
      </p:pic>
      <p:pic>
        <p:nvPicPr>
          <p:cNvPr id="365" name="cplogo" descr=""/>
          <p:cNvPicPr/>
          <p:nvPr/>
        </p:nvPicPr>
        <p:blipFill>
          <a:blip r:embed="rId2"/>
          <a:stretch/>
        </p:blipFill>
        <p:spPr>
          <a:xfrm>
            <a:off x="8434440" y="0"/>
            <a:ext cx="704880" cy="8571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1295280" y="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Dutch TL"/>
              </a:rPr>
              <a:t>Tīrākās Ražošanas Finansēš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UNEP" descr=""/>
          <p:cNvPicPr/>
          <p:nvPr/>
        </p:nvPicPr>
        <p:blipFill>
          <a:blip r:embed="rId3"/>
          <a:stretch/>
        </p:blipFill>
        <p:spPr>
          <a:xfrm>
            <a:off x="0" y="0"/>
            <a:ext cx="977760" cy="1066680"/>
          </a:xfrm>
          <a:prstGeom prst="rect">
            <a:avLst/>
          </a:prstGeom>
          <a:ln w="0">
            <a:noFill/>
          </a:ln>
        </p:spPr>
      </p:pic>
      <p:pic>
        <p:nvPicPr>
          <p:cNvPr id="368" name="UNEP" descr=""/>
          <p:cNvPicPr/>
          <p:nvPr/>
        </p:nvPicPr>
        <p:blipFill>
          <a:blip r:embed="rId4"/>
          <a:stretch/>
        </p:blipFill>
        <p:spPr>
          <a:xfrm flipH="1" rot="10800000">
            <a:off x="1219320" y="6095520"/>
            <a:ext cx="533160" cy="76212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1905120" y="6292800"/>
            <a:ext cx="596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ISION OF TECHNOLOGY, INDUSTRY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72000" y="39625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90720" y="1295280"/>
            <a:ext cx="70866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utch T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Dutch TL"/>
              </a:rPr>
              <a:t>Forms to the distrib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Investīciju lēmuma izdevumu/ietaupījumu kontroll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Investīciju projekta priekšlik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Bankas aizdevumu TR investīciju sat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P IconicSymbolsA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UNEP publikācijas un informatīvās l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45E3-4652-4557-BEBF-D098E0F0F6D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UNEP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914400"/>
          </a:xfrm>
          <a:prstGeom prst="rect">
            <a:avLst/>
          </a:prstGeom>
          <a:ln w="0">
            <a:noFill/>
          </a:ln>
        </p:spPr>
      </p:pic>
      <p:pic>
        <p:nvPicPr>
          <p:cNvPr id="373" name="cplogo" descr=""/>
          <p:cNvPicPr/>
          <p:nvPr/>
        </p:nvPicPr>
        <p:blipFill>
          <a:blip r:embed="rId2"/>
          <a:stretch/>
        </p:blipFill>
        <p:spPr>
          <a:xfrm>
            <a:off x="8434440" y="0"/>
            <a:ext cx="704880" cy="85716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1295280" y="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Dutch TL"/>
              </a:rPr>
              <a:t>Tīrākās Ražošanas Finansēš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UNEP" descr=""/>
          <p:cNvPicPr/>
          <p:nvPr/>
        </p:nvPicPr>
        <p:blipFill>
          <a:blip r:embed="rId3"/>
          <a:stretch/>
        </p:blipFill>
        <p:spPr>
          <a:xfrm>
            <a:off x="0" y="0"/>
            <a:ext cx="977760" cy="1066680"/>
          </a:xfrm>
          <a:prstGeom prst="rect">
            <a:avLst/>
          </a:prstGeom>
          <a:ln w="0">
            <a:noFill/>
          </a:ln>
        </p:spPr>
      </p:pic>
      <p:pic>
        <p:nvPicPr>
          <p:cNvPr id="376" name="UNEP" descr=""/>
          <p:cNvPicPr/>
          <p:nvPr/>
        </p:nvPicPr>
        <p:blipFill>
          <a:blip r:embed="rId4"/>
          <a:stretch/>
        </p:blipFill>
        <p:spPr>
          <a:xfrm flipH="1" rot="10800000">
            <a:off x="1219320" y="6095520"/>
            <a:ext cx="533160" cy="7621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1905120" y="6292800"/>
            <a:ext cx="596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ISION OF TECHNOLOGY, INDUSTRY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95280" y="0"/>
            <a:ext cx="1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990720" y="1162080"/>
            <a:ext cx="71578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Dutch TL"/>
              </a:rPr>
              <a:t>Turpmākai informācijai lūdzu kontaktējieties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i Huht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ager (Cleaner Production Financ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EP/D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9-43 rue André Citroë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-75739 Paris Cedex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l. + 33 1 44 37 14 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x + 33 1 44 37 14 7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-mail: ari.huhtala@unep.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F404-83DC-4ECA-B3E6-3BB94D19341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UNEP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cplogo" descr=""/>
          <p:cNvPicPr/>
          <p:nvPr/>
        </p:nvPicPr>
        <p:blipFill>
          <a:blip r:embed="rId2"/>
          <a:stretch/>
        </p:blipFill>
        <p:spPr>
          <a:xfrm>
            <a:off x="8434440" y="0"/>
            <a:ext cx="704880" cy="857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295280" y="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utch TL"/>
              </a:rPr>
              <a:t>Tīrākās Ražošanas Finansēš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UNEP" descr=""/>
          <p:cNvPicPr/>
          <p:nvPr/>
        </p:nvPicPr>
        <p:blipFill>
          <a:blip r:embed="rId3"/>
          <a:stretch/>
        </p:blipFill>
        <p:spPr>
          <a:xfrm>
            <a:off x="0" y="0"/>
            <a:ext cx="977760" cy="1066680"/>
          </a:xfrm>
          <a:prstGeom prst="rect">
            <a:avLst/>
          </a:prstGeom>
          <a:ln w="0">
            <a:noFill/>
          </a:ln>
        </p:spPr>
      </p:pic>
      <p:pic>
        <p:nvPicPr>
          <p:cNvPr id="66" name="UNEP" descr=""/>
          <p:cNvPicPr/>
          <p:nvPr/>
        </p:nvPicPr>
        <p:blipFill>
          <a:blip r:embed="rId4"/>
          <a:stretch/>
        </p:blipFill>
        <p:spPr>
          <a:xfrm flipH="1" rot="10800000">
            <a:off x="1219320" y="6095520"/>
            <a:ext cx="533160" cy="762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905120" y="6292800"/>
            <a:ext cx="596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ISION OF TECHNOLOGY, INDUSTRY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1371600"/>
            <a:ext cx="746748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utch TL"/>
              </a:rPr>
              <a:t>Jautāju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Dutch TL"/>
              </a:rPr>
              <a:t>Vai </a:t>
            </a:r>
            <a:r>
              <a:rPr b="0" lang="en-US" sz="3600" spc="-1" strike="noStrike">
                <a:solidFill>
                  <a:srgbClr val="3333cc"/>
                </a:solidFill>
                <a:latin typeface="Dutch TL"/>
              </a:rPr>
              <a:t>finansēšanas gala lēmums ir investīcijas va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Dutch TL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Dutch TL"/>
              </a:rPr>
              <a:t>izdevumi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1955-BBF4-4E91-90DB-FFFAD4DFA2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UNEP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914400"/>
          </a:xfrm>
          <a:prstGeom prst="rect">
            <a:avLst/>
          </a:prstGeom>
          <a:ln w="0">
            <a:noFill/>
          </a:ln>
        </p:spPr>
      </p:pic>
      <p:pic>
        <p:nvPicPr>
          <p:cNvPr id="70" name="cplogo" descr=""/>
          <p:cNvPicPr/>
          <p:nvPr/>
        </p:nvPicPr>
        <p:blipFill>
          <a:blip r:embed="rId2"/>
          <a:stretch/>
        </p:blipFill>
        <p:spPr>
          <a:xfrm>
            <a:off x="8434440" y="0"/>
            <a:ext cx="704880" cy="8571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295280" y="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Dutch TL"/>
              </a:rPr>
              <a:t>Tīrākās Ražošanas Finansēš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UNEP" descr=""/>
          <p:cNvPicPr/>
          <p:nvPr/>
        </p:nvPicPr>
        <p:blipFill>
          <a:blip r:embed="rId3"/>
          <a:stretch/>
        </p:blipFill>
        <p:spPr>
          <a:xfrm>
            <a:off x="0" y="0"/>
            <a:ext cx="977760" cy="1066680"/>
          </a:xfrm>
          <a:prstGeom prst="rect">
            <a:avLst/>
          </a:prstGeom>
          <a:ln w="0">
            <a:noFill/>
          </a:ln>
        </p:spPr>
      </p:pic>
      <p:pic>
        <p:nvPicPr>
          <p:cNvPr id="73" name="UNEP" descr=""/>
          <p:cNvPicPr/>
          <p:nvPr/>
        </p:nvPicPr>
        <p:blipFill>
          <a:blip r:embed="rId4"/>
          <a:stretch/>
        </p:blipFill>
        <p:spPr>
          <a:xfrm flipH="1" rot="10800000">
            <a:off x="1219320" y="6095520"/>
            <a:ext cx="533160" cy="762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905120" y="6292800"/>
            <a:ext cx="596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ISION OF TECHNOLOGY, INDUSTRY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6002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1066680"/>
            <a:ext cx="6840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emi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Dutch TL"/>
              </a:rPr>
              <a:t>TR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Dutch TL"/>
              </a:rPr>
              <a:t>nvestēšana ir pievilcīga  sakarā 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Dutch TL"/>
              </a:rPr>
              <a:t>Izejmateriālu cenu samazināšan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Ūdens un enerģijas cenu samazināša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Dutch TL"/>
              </a:rPr>
              <a:t>Atkritumu attīrīšanas un likvidēšanas izdevumu samazināša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B3A2-5019-4F79-AF11-06B06660BE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UNEP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914400"/>
          </a:xfrm>
          <a:prstGeom prst="rect">
            <a:avLst/>
          </a:prstGeom>
          <a:ln w="0">
            <a:noFill/>
          </a:ln>
        </p:spPr>
      </p:pic>
      <p:pic>
        <p:nvPicPr>
          <p:cNvPr id="78" name="cplogo" descr=""/>
          <p:cNvPicPr/>
          <p:nvPr/>
        </p:nvPicPr>
        <p:blipFill>
          <a:blip r:embed="rId2"/>
          <a:stretch/>
        </p:blipFill>
        <p:spPr>
          <a:xfrm>
            <a:off x="8434440" y="0"/>
            <a:ext cx="704880" cy="857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295280" y="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Dutch TL"/>
              </a:rPr>
              <a:t>Tīrākās Ražošanas Finansēš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UNEP" descr=""/>
          <p:cNvPicPr/>
          <p:nvPr/>
        </p:nvPicPr>
        <p:blipFill>
          <a:blip r:embed="rId3"/>
          <a:stretch/>
        </p:blipFill>
        <p:spPr>
          <a:xfrm>
            <a:off x="0" y="0"/>
            <a:ext cx="977760" cy="1066680"/>
          </a:xfrm>
          <a:prstGeom prst="rect">
            <a:avLst/>
          </a:prstGeom>
          <a:ln w="0">
            <a:noFill/>
          </a:ln>
        </p:spPr>
      </p:pic>
      <p:pic>
        <p:nvPicPr>
          <p:cNvPr id="81" name="UNEP" descr=""/>
          <p:cNvPicPr/>
          <p:nvPr/>
        </p:nvPicPr>
        <p:blipFill>
          <a:blip r:embed="rId4"/>
          <a:stretch/>
        </p:blipFill>
        <p:spPr>
          <a:xfrm flipH="1" rot="10800000">
            <a:off x="1219320" y="6095520"/>
            <a:ext cx="533160" cy="762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905120" y="6292800"/>
            <a:ext cx="596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ISION OF TECHNOLOGY, INDUSTRY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16002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1219320"/>
            <a:ext cx="684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Dutch TL"/>
              </a:rPr>
              <a:t>Jautājums ir adresē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Dutch TL"/>
              </a:rPr>
              <a:t>Neskatoties uz pievilcīgiem ieguvumiem, TR investēšanas fondu orientēšana uz to turpināšanu ir diezgan grūta - sevišķi maziem un vidējiem uzņēmumi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4549-913A-4EA8-953C-10273C8909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UNEP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914400"/>
          </a:xfrm>
          <a:prstGeom prst="rect">
            <a:avLst/>
          </a:prstGeom>
          <a:ln w="0">
            <a:noFill/>
          </a:ln>
        </p:spPr>
      </p:pic>
      <p:pic>
        <p:nvPicPr>
          <p:cNvPr id="86" name="cplogo" descr=""/>
          <p:cNvPicPr/>
          <p:nvPr/>
        </p:nvPicPr>
        <p:blipFill>
          <a:blip r:embed="rId2"/>
          <a:stretch/>
        </p:blipFill>
        <p:spPr>
          <a:xfrm>
            <a:off x="8434440" y="0"/>
            <a:ext cx="704880" cy="857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295280" y="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utch TL"/>
              </a:rPr>
              <a:t>Tīrākās Ražošanas Finansēš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UNEP" descr=""/>
          <p:cNvPicPr/>
          <p:nvPr/>
        </p:nvPicPr>
        <p:blipFill>
          <a:blip r:embed="rId3"/>
          <a:stretch/>
        </p:blipFill>
        <p:spPr>
          <a:xfrm>
            <a:off x="0" y="0"/>
            <a:ext cx="977760" cy="1066680"/>
          </a:xfrm>
          <a:prstGeom prst="rect">
            <a:avLst/>
          </a:prstGeom>
          <a:ln w="0">
            <a:noFill/>
          </a:ln>
        </p:spPr>
      </p:pic>
      <p:pic>
        <p:nvPicPr>
          <p:cNvPr id="89" name="UNEP" descr=""/>
          <p:cNvPicPr/>
          <p:nvPr/>
        </p:nvPicPr>
        <p:blipFill>
          <a:blip r:embed="rId4"/>
          <a:stretch/>
        </p:blipFill>
        <p:spPr>
          <a:xfrm flipH="1" rot="10800000">
            <a:off x="1219320" y="6095520"/>
            <a:ext cx="533160" cy="762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05120" y="6292800"/>
            <a:ext cx="596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ISION OF TECHNOLOGY, INDUSTRY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838080"/>
            <a:ext cx="685800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utch TL"/>
              </a:rPr>
              <a:t>Šķēršļi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TR atmaksāšanās periods dažos gadījumos varētu būt ilgāks nekā alternatīvo investīciju izvē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Bieži vides risks ir nepietiekami novērtēts </a:t>
            </a: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Finansu institūcijām nav informācijas par TR investēšanas priekšlikumu tehniskajām un finansiālajām vērtībā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6403-A955-4803-A2DD-D0CC1B2005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UNEP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914400"/>
          </a:xfrm>
          <a:prstGeom prst="rect">
            <a:avLst/>
          </a:prstGeom>
          <a:ln w="0">
            <a:noFill/>
          </a:ln>
        </p:spPr>
      </p:pic>
      <p:pic>
        <p:nvPicPr>
          <p:cNvPr id="93" name="cplogo" descr=""/>
          <p:cNvPicPr/>
          <p:nvPr/>
        </p:nvPicPr>
        <p:blipFill>
          <a:blip r:embed="rId2"/>
          <a:stretch/>
        </p:blipFill>
        <p:spPr>
          <a:xfrm>
            <a:off x="8434440" y="0"/>
            <a:ext cx="704880" cy="857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95280" y="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Dutch TL"/>
              </a:rPr>
              <a:t>Tīrākās Ražošanas Finansēš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UNEP" descr=""/>
          <p:cNvPicPr/>
          <p:nvPr/>
        </p:nvPicPr>
        <p:blipFill>
          <a:blip r:embed="rId3"/>
          <a:stretch/>
        </p:blipFill>
        <p:spPr>
          <a:xfrm>
            <a:off x="0" y="0"/>
            <a:ext cx="977760" cy="1066680"/>
          </a:xfrm>
          <a:prstGeom prst="rect">
            <a:avLst/>
          </a:prstGeom>
          <a:ln w="0">
            <a:noFill/>
          </a:ln>
        </p:spPr>
      </p:pic>
      <p:pic>
        <p:nvPicPr>
          <p:cNvPr id="96" name="UNEP" descr=""/>
          <p:cNvPicPr/>
          <p:nvPr/>
        </p:nvPicPr>
        <p:blipFill>
          <a:blip r:embed="rId4"/>
          <a:stretch/>
        </p:blipFill>
        <p:spPr>
          <a:xfrm flipH="1" rot="10800000">
            <a:off x="1219320" y="6095520"/>
            <a:ext cx="533160" cy="762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05120" y="6292800"/>
            <a:ext cx="596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ISION OF TECHNOLOGY, INDUSTRY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990720"/>
            <a:ext cx="685800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utch TL"/>
              </a:rPr>
              <a:t>Šķēršļi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Dutch TL"/>
              </a:rPr>
              <a:t>Valsts stimulu trūkums TR investēšan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Nespēja sagatavot TR investēšanas atbilstošu kredītpriekšliku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Bieži TR investēšanas lielums ir par mazu, lai ieinteresētu banku aizdevumu vai investīciju ierēdņ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F909-1C11-4BCF-B7DE-7BD933921A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UNEP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914400"/>
          </a:xfrm>
          <a:prstGeom prst="rect">
            <a:avLst/>
          </a:prstGeom>
          <a:ln w="0">
            <a:noFill/>
          </a:ln>
        </p:spPr>
      </p:pic>
      <p:pic>
        <p:nvPicPr>
          <p:cNvPr id="100" name="cplogo" descr=""/>
          <p:cNvPicPr/>
          <p:nvPr/>
        </p:nvPicPr>
        <p:blipFill>
          <a:blip r:embed="rId2"/>
          <a:stretch/>
        </p:blipFill>
        <p:spPr>
          <a:xfrm>
            <a:off x="8434440" y="0"/>
            <a:ext cx="704880" cy="8571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95280" y="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utch TL"/>
              </a:rPr>
              <a:t>Tīrākās Ražošanas Finansēš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UNEP" descr=""/>
          <p:cNvPicPr/>
          <p:nvPr/>
        </p:nvPicPr>
        <p:blipFill>
          <a:blip r:embed="rId3"/>
          <a:stretch/>
        </p:blipFill>
        <p:spPr>
          <a:xfrm>
            <a:off x="0" y="0"/>
            <a:ext cx="977760" cy="1066680"/>
          </a:xfrm>
          <a:prstGeom prst="rect">
            <a:avLst/>
          </a:prstGeom>
          <a:ln w="0">
            <a:noFill/>
          </a:ln>
        </p:spPr>
      </p:pic>
      <p:pic>
        <p:nvPicPr>
          <p:cNvPr id="103" name="UNEP" descr=""/>
          <p:cNvPicPr/>
          <p:nvPr/>
        </p:nvPicPr>
        <p:blipFill>
          <a:blip r:embed="rId4"/>
          <a:stretch/>
        </p:blipFill>
        <p:spPr>
          <a:xfrm flipH="1" rot="10800000">
            <a:off x="1219320" y="6095520"/>
            <a:ext cx="533160" cy="762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905120" y="6292800"/>
            <a:ext cx="596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ISION OF TECHNOLOGY, INDUSTRY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990720"/>
            <a:ext cx="68580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utch TL"/>
              </a:rPr>
              <a:t>Šķēršļi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Dutch TL"/>
              </a:rPr>
              <a:t>Daudzās attīstošās valstī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Vides likumdošanas trūk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Dabas resursu zemas cenas vai brīva to piee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Maza vai nav patērētāju zaļās kustīb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Augsta TR ieviešanas vietējā c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879E-3704-49A5-AA14-798D8BFBAE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9T13:18:14Z</dcterms:created>
  <dc:creator>UNEP</dc:creator>
  <dc:description/>
  <dc:language>en-US</dc:language>
  <cp:lastModifiedBy>CESAMS</cp:lastModifiedBy>
  <dcterms:modified xsi:type="dcterms:W3CDTF">2000-05-25T09:46:30Z</dcterms:modified>
  <cp:revision>21</cp:revision>
  <dc:subject/>
  <dc:title>No Slide Title</dc:title>
</cp:coreProperties>
</file>